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8.jpeg" ContentType="image/jpeg"/>
  <Override PartName="/ppt/media/image1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9695CB-AB9E-4A4F-B09F-0B429B4BBF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 company of dea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12A0-3164-44F9-A760-68A76D067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0493-247B-4F50-9574-7C60995F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94E5-5AD5-42EA-BF6F-74EFE19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2169-5590-4810-90DE-757DC118DD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C04BA-6431-4437-A0E1-54E37BCA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C7ED-EC6B-4F55-9EDE-B3FF78D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B296-1627-4D2D-9542-228989C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F98B-434F-438B-A0FB-105336C3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D196-7DB3-4A92-B925-A4B8562B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C1182-7D6C-4C04-B999-11AB859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8ABA-8C17-4B94-A69B-7642928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F51E-F267-430D-B267-0163F10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30184-B2EF-409A-9CEF-310D78A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E3B79-5820-41BE-AE36-16974A08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E6E1C-D797-4A7D-B126-2656D01A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F7D6-E71A-4161-A489-52FDC9D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BD828-F389-4879-BE23-B22E8E71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6B38-BA67-4587-802D-F5F92BD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1CE2-3B15-4D6A-BDDC-D20FE25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16D9-A156-4102-83DB-123842E2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B849-A012-4C0D-AEAB-75E389A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6846-31CF-4939-80D6-9B505B52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70BE-EBE0-44F3-B012-552935A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6A01-FB0F-41BF-A549-5E512693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137A-643C-47C3-BCD7-F8946EE58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7BA-AD21-4033-8CCA-AFD6C812D3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990720"/>
            <a:ext cx="66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Department of 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Universit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é </a:t>
            </a: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bre de Bruxell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Universidad de Costa 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Times New Roman"/>
              </a:rPr>
              <a:t>Requirements Specification and Conceptual Modeling for Spatial Data Warehous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846680"/>
            <a:ext cx="43434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333399"/>
                </a:solidFill>
                <a:latin typeface="Times New Roman"/>
              </a:rPr>
              <a:t>Elzbieta Malinowski Gaj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333399"/>
                </a:solidFill>
                <a:latin typeface="Times New Roman"/>
              </a:rPr>
              <a:t>Esteban Zimá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9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niversité Libre de Bruxelle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aculté de Sciencies Appliquée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rvice Ingénierie Informatique et de la Décision (CoDE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CA5C-8DC4-4E04-B835-F852BD9A44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240" y="2057400"/>
            <a:ext cx="7580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termine what data should be available and how it is organiz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ree different approach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581280" y="4419720"/>
          <a:ext cx="16002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419720"/>
                    <a:ext cx="1600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2146320" y="3886200"/>
            <a:ext cx="4254480" cy="676080"/>
            <a:chOff x="2146320" y="3886200"/>
            <a:chExt cx="4254480" cy="676080"/>
          </a:xfrm>
        </p:grpSpPr>
        <p:grpSp>
          <p:nvGrpSpPr>
            <p:cNvPr id="269" name=""/>
            <p:cNvGrpSpPr/>
            <p:nvPr/>
          </p:nvGrpSpPr>
          <p:grpSpPr>
            <a:xfrm>
              <a:off x="2146320" y="3886200"/>
              <a:ext cx="368280" cy="676080"/>
              <a:chOff x="2146320" y="3886200"/>
              <a:chExt cx="368280" cy="676080"/>
            </a:xfrm>
          </p:grpSpPr>
          <p:sp>
            <p:nvSpPr>
              <p:cNvPr id="270" name=""/>
              <p:cNvSpPr/>
              <p:nvPr/>
            </p:nvSpPr>
            <p:spPr>
              <a:xfrm>
                <a:off x="2219400" y="38862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36760" y="4114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6320" y="42386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2188800" y="4410000"/>
                <a:ext cx="304560" cy="152280"/>
                <a:chOff x="2188800" y="4410000"/>
                <a:chExt cx="304560" cy="15228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2188800" y="44100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341440" y="44100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2743200" y="38862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388620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Demand dr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209680" y="4648320"/>
            <a:ext cx="6324840" cy="457200"/>
            <a:chOff x="2209680" y="4648320"/>
            <a:chExt cx="6324840" cy="457200"/>
          </a:xfrm>
        </p:grpSpPr>
        <p:grpSp>
          <p:nvGrpSpPr>
            <p:cNvPr id="279" name=""/>
            <p:cNvGrpSpPr/>
            <p:nvPr/>
          </p:nvGrpSpPr>
          <p:grpSpPr>
            <a:xfrm>
              <a:off x="2209680" y="4648320"/>
              <a:ext cx="304560" cy="304560"/>
              <a:chOff x="2209680" y="4648320"/>
              <a:chExt cx="304560" cy="30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2361960" y="4648320"/>
                <a:ext cx="0" cy="30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09680" y="4800600"/>
                <a:ext cx="304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666880" y="4648320"/>
              <a:ext cx="5867640" cy="457200"/>
              <a:chOff x="2666880" y="4648320"/>
              <a:chExt cx="5867640" cy="457200"/>
            </a:xfrm>
          </p:grpSpPr>
          <p:sp>
            <p:nvSpPr>
              <p:cNvPr id="283" name=""/>
              <p:cNvSpPr/>
              <p:nvPr/>
            </p:nvSpPr>
            <p:spPr>
              <a:xfrm>
                <a:off x="2666880" y="4648320"/>
                <a:ext cx="838440" cy="380880"/>
              </a:xfrm>
              <a:prstGeom prst="rightArrow">
                <a:avLst>
                  <a:gd name="adj1" fmla="val 50000"/>
                  <a:gd name="adj2" fmla="val 5503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86400" y="4648320"/>
                <a:ext cx="3048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3333cc"/>
                    </a:solidFill>
                    <a:latin typeface="Tahoma"/>
                    <a:ea typeface="Times New Roman"/>
                  </a:rPr>
                  <a:t>Demand/supply driv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2057400" y="5105520"/>
            <a:ext cx="4267080" cy="761760"/>
            <a:chOff x="2057400" y="5105520"/>
            <a:chExt cx="4267080" cy="761760"/>
          </a:xfrm>
        </p:grpSpPr>
        <p:sp>
          <p:nvSpPr>
            <p:cNvPr id="286" name=""/>
            <p:cNvSpPr/>
            <p:nvPr/>
          </p:nvSpPr>
          <p:spPr>
            <a:xfrm>
              <a:off x="2057400" y="510552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057400" y="5334120"/>
              <a:ext cx="4267080" cy="459000"/>
              <a:chOff x="2057400" y="5334120"/>
              <a:chExt cx="4267080" cy="45900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5410080"/>
                <a:ext cx="1218960" cy="381240"/>
              </a:xfrm>
              <a:custGeom>
                <a:avLst/>
                <a:gdLst>
                  <a:gd name="textAreaLeft" fmla="*/ 213120 w 1218960"/>
                  <a:gd name="textAreaRight" fmla="*/ 883800 w 121896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43400" y="5334120"/>
                <a:ext cx="1981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ba89"/>
                    </a:solidFill>
                    <a:latin typeface="Tahoma"/>
                    <a:ea typeface="Times New Roman"/>
                  </a:rPr>
                  <a:t>Supply driv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7400" y="533412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Sourc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5E25-413F-4DDE-B577-78DBF3DC4D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-961920" y="4087440"/>
            <a:ext cx="366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13000" y="2057400"/>
            <a:ext cx="2654280" cy="676080"/>
            <a:chOff x="3213000" y="2057400"/>
            <a:chExt cx="2654280" cy="676080"/>
          </a:xfrm>
        </p:grpSpPr>
        <p:grpSp>
          <p:nvGrpSpPr>
            <p:cNvPr id="296" name=""/>
            <p:cNvGrpSpPr/>
            <p:nvPr/>
          </p:nvGrpSpPr>
          <p:grpSpPr>
            <a:xfrm>
              <a:off x="3213000" y="2057400"/>
              <a:ext cx="368280" cy="676080"/>
              <a:chOff x="3213000" y="2057400"/>
              <a:chExt cx="368280" cy="676080"/>
            </a:xfrm>
          </p:grpSpPr>
          <p:sp>
            <p:nvSpPr>
              <p:cNvPr id="297" name=""/>
              <p:cNvSpPr/>
              <p:nvPr/>
            </p:nvSpPr>
            <p:spPr>
              <a:xfrm>
                <a:off x="3286080" y="20574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3440" y="2286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13000" y="2409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3255480" y="2581200"/>
                <a:ext cx="304560" cy="152280"/>
                <a:chOff x="3255480" y="2581200"/>
                <a:chExt cx="304560" cy="152280"/>
              </a:xfrm>
            </p:grpSpPr>
            <p:sp>
              <p:nvSpPr>
                <p:cNvPr id="301" name=""/>
                <p:cNvSpPr/>
                <p:nvPr/>
              </p:nvSpPr>
              <p:spPr>
                <a:xfrm flipH="1">
                  <a:off x="3255480" y="25812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408120" y="25812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3809880" y="209556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Demand dr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58560" y="2844360"/>
            <a:ext cx="69706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dentify users on different organizational lev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termine analysis need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3733920"/>
            <a:ext cx="4648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e users familiar with spatial da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e they able to express which spatial data they requ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943600" y="3867120"/>
            <a:ext cx="2209680" cy="933120"/>
            <a:chOff x="5943600" y="3867120"/>
            <a:chExt cx="2209680" cy="933120"/>
          </a:xfrm>
        </p:grpSpPr>
        <p:grpSp>
          <p:nvGrpSpPr>
            <p:cNvPr id="307" name=""/>
            <p:cNvGrpSpPr/>
            <p:nvPr/>
          </p:nvGrpSpPr>
          <p:grpSpPr>
            <a:xfrm>
              <a:off x="5943600" y="3867120"/>
              <a:ext cx="914400" cy="904680"/>
              <a:chOff x="5943600" y="3867120"/>
              <a:chExt cx="914400" cy="9046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943600" y="4095720"/>
                <a:ext cx="368280" cy="676080"/>
                <a:chOff x="5943600" y="4095720"/>
                <a:chExt cx="368280" cy="6760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016680" y="4095720"/>
                  <a:ext cx="228600" cy="22860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34040" y="43243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943600" y="4448160"/>
                  <a:ext cx="36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5986080" y="4619520"/>
                  <a:ext cx="304560" cy="152280"/>
                  <a:chOff x="5986080" y="4619520"/>
                  <a:chExt cx="304560" cy="1522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>
                    <a:off x="5986080" y="461952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38720" y="461952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5" name=""/>
              <p:cNvSpPr/>
              <p:nvPr/>
            </p:nvSpPr>
            <p:spPr>
              <a:xfrm>
                <a:off x="6172200" y="3867120"/>
                <a:ext cx="685800" cy="304920"/>
              </a:xfrm>
              <a:prstGeom prst="wedgeEllipseCallout">
                <a:avLst>
                  <a:gd name="adj1" fmla="val -39583"/>
                  <a:gd name="adj2" fmla="val 6979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238880" y="3895560"/>
              <a:ext cx="914400" cy="904680"/>
              <a:chOff x="7238880" y="3895560"/>
              <a:chExt cx="914400" cy="9046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238880" y="4124160"/>
                <a:ext cx="368280" cy="676080"/>
                <a:chOff x="7238880" y="4124160"/>
                <a:chExt cx="368280" cy="6760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1960" y="4124160"/>
                  <a:ext cx="228600" cy="22860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429320" y="435276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238880" y="4476600"/>
                  <a:ext cx="36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7281360" y="4647960"/>
                  <a:ext cx="304560" cy="152280"/>
                  <a:chOff x="7281360" y="4647960"/>
                  <a:chExt cx="304560" cy="1522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H="1">
                    <a:off x="7281360" y="464796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434000" y="464796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7467480" y="3895560"/>
                <a:ext cx="685800" cy="304920"/>
              </a:xfrm>
              <a:prstGeom prst="wedgeEllipseCallout">
                <a:avLst>
                  <a:gd name="adj1" fmla="val -39583"/>
                  <a:gd name="adj2" fmla="val 6979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Y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48CD-B63A-4FC0-ADC4-22CA24C23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-961920" y="4087440"/>
            <a:ext cx="366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213000" y="2057400"/>
            <a:ext cx="2654280" cy="676080"/>
            <a:chOff x="3213000" y="2057400"/>
            <a:chExt cx="2654280" cy="676080"/>
          </a:xfrm>
        </p:grpSpPr>
        <p:grpSp>
          <p:nvGrpSpPr>
            <p:cNvPr id="329" name=""/>
            <p:cNvGrpSpPr/>
            <p:nvPr/>
          </p:nvGrpSpPr>
          <p:grpSpPr>
            <a:xfrm>
              <a:off x="3213000" y="2057400"/>
              <a:ext cx="368280" cy="676080"/>
              <a:chOff x="3213000" y="2057400"/>
              <a:chExt cx="368280" cy="676080"/>
            </a:xfrm>
          </p:grpSpPr>
          <p:sp>
            <p:nvSpPr>
              <p:cNvPr id="330" name=""/>
              <p:cNvSpPr/>
              <p:nvPr/>
            </p:nvSpPr>
            <p:spPr>
              <a:xfrm>
                <a:off x="3286080" y="20574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03440" y="2286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13000" y="2409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255480" y="2581200"/>
                <a:ext cx="304560" cy="152280"/>
                <a:chOff x="3255480" y="2581200"/>
                <a:chExt cx="304560" cy="15228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3255480" y="25812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408120" y="25812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3809880" y="209556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Demand dr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447920" y="2752560"/>
            <a:ext cx="7010280" cy="1285920"/>
            <a:chOff x="1447920" y="2752560"/>
            <a:chExt cx="7010280" cy="1285920"/>
          </a:xfrm>
        </p:grpSpPr>
        <p:grpSp>
          <p:nvGrpSpPr>
            <p:cNvPr id="338" name=""/>
            <p:cNvGrpSpPr/>
            <p:nvPr/>
          </p:nvGrpSpPr>
          <p:grpSpPr>
            <a:xfrm>
              <a:off x="7543800" y="2981160"/>
              <a:ext cx="368280" cy="676080"/>
              <a:chOff x="7543800" y="2981160"/>
              <a:chExt cx="368280" cy="676080"/>
            </a:xfrm>
          </p:grpSpPr>
          <p:sp>
            <p:nvSpPr>
              <p:cNvPr id="339" name=""/>
              <p:cNvSpPr/>
              <p:nvPr/>
            </p:nvSpPr>
            <p:spPr>
              <a:xfrm>
                <a:off x="7616880" y="298116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34240" y="3209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43800" y="333360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586280" y="3504960"/>
                <a:ext cx="304560" cy="152280"/>
                <a:chOff x="7586280" y="3504960"/>
                <a:chExt cx="304560" cy="152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7586280" y="35049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738920" y="350496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1447920" y="2752560"/>
              <a:ext cx="7010280" cy="1285920"/>
              <a:chOff x="1447920" y="2752560"/>
              <a:chExt cx="7010280" cy="1285920"/>
            </a:xfrm>
          </p:grpSpPr>
          <p:sp>
            <p:nvSpPr>
              <p:cNvPr id="346" name=""/>
              <p:cNvSpPr/>
              <p:nvPr/>
            </p:nvSpPr>
            <p:spPr>
              <a:xfrm>
                <a:off x="1447920" y="2819520"/>
                <a:ext cx="6172200" cy="12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90000"/>
                  </a:lnSpc>
                  <a:spcBef>
                    <a:spcPts val="601"/>
                  </a:spcBef>
                  <a:buClr>
                    <a:srgbClr val="3333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ahoma"/>
                  </a:rPr>
                  <a:t>Late</a:t>
                </a:r>
                <a:r>
                  <a:rPr b="0" lang="en-GB" sz="2400" spc="-1" strike="noStrike">
                    <a:solidFill>
                      <a:srgbClr val="000066"/>
                    </a:solidFill>
                    <a:latin typeface="Tahoma"/>
                  </a:rPr>
                  <a:t> inclusion of spatial suppor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90000"/>
                  </a:lnSpc>
                  <a:spcBef>
                    <a:spcPts val="400"/>
                  </a:spcBef>
                  <a:buClr>
                    <a:srgbClr val="ff000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Spatial data is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not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considered from the beginning of requirements gathering process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90000"/>
                  </a:lnSpc>
                  <a:spcBef>
                    <a:spcPts val="400"/>
                  </a:spcBef>
                  <a:buClr>
                    <a:srgbClr val="ff000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72400" y="2752560"/>
                <a:ext cx="685800" cy="304920"/>
              </a:xfrm>
              <a:prstGeom prst="wedgeEllipseCallout">
                <a:avLst>
                  <a:gd name="adj1" fmla="val -39583"/>
                  <a:gd name="adj2" fmla="val 6979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1447920" y="3962520"/>
            <a:ext cx="7010280" cy="1218960"/>
            <a:chOff x="1447920" y="3962520"/>
            <a:chExt cx="7010280" cy="1218960"/>
          </a:xfrm>
        </p:grpSpPr>
        <p:grpSp>
          <p:nvGrpSpPr>
            <p:cNvPr id="349" name=""/>
            <p:cNvGrpSpPr/>
            <p:nvPr/>
          </p:nvGrpSpPr>
          <p:grpSpPr>
            <a:xfrm>
              <a:off x="7543800" y="4276800"/>
              <a:ext cx="368280" cy="676080"/>
              <a:chOff x="7543800" y="4276800"/>
              <a:chExt cx="368280" cy="676080"/>
            </a:xfrm>
          </p:grpSpPr>
          <p:sp>
            <p:nvSpPr>
              <p:cNvPr id="350" name=""/>
              <p:cNvSpPr/>
              <p:nvPr/>
            </p:nvSpPr>
            <p:spPr>
              <a:xfrm>
                <a:off x="7616880" y="42768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34240" y="4505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43800" y="46292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586280" y="4800600"/>
                <a:ext cx="304560" cy="152280"/>
                <a:chOff x="7586280" y="4800600"/>
                <a:chExt cx="304560" cy="152280"/>
              </a:xfrm>
            </p:grpSpPr>
            <p:sp>
              <p:nvSpPr>
                <p:cNvPr id="354" name=""/>
                <p:cNvSpPr/>
                <p:nvPr/>
              </p:nvSpPr>
              <p:spPr>
                <a:xfrm flipH="1">
                  <a:off x="7586280" y="4800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738920" y="48006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1447920" y="3962520"/>
              <a:ext cx="7010280" cy="1218960"/>
              <a:chOff x="1447920" y="3962520"/>
              <a:chExt cx="7010280" cy="1218960"/>
            </a:xfrm>
          </p:grpSpPr>
          <p:sp>
            <p:nvSpPr>
              <p:cNvPr id="357" name=""/>
              <p:cNvSpPr/>
              <p:nvPr/>
            </p:nvSpPr>
            <p:spPr>
              <a:xfrm>
                <a:off x="1447920" y="3962520"/>
                <a:ext cx="6095880" cy="12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90000"/>
                  </a:lnSpc>
                  <a:spcBef>
                    <a:spcPts val="601"/>
                  </a:spcBef>
                  <a:buClr>
                    <a:srgbClr val="3333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ahoma"/>
                  </a:rPr>
                  <a:t>Early</a:t>
                </a:r>
                <a:r>
                  <a:rPr b="0" lang="en-GB" sz="2400" spc="-1" strike="noStrike">
                    <a:solidFill>
                      <a:srgbClr val="000066"/>
                    </a:solidFill>
                    <a:latin typeface="Tahoma"/>
                  </a:rPr>
                  <a:t> inclusion of spatial suppor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90000"/>
                  </a:lnSpc>
                  <a:spcBef>
                    <a:spcPts val="400"/>
                  </a:spcBef>
                  <a:buClr>
                    <a:srgbClr val="ff000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Spatial data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is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considered from the beginning of requirements gathering process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90000"/>
                  </a:lnSpc>
                  <a:spcBef>
                    <a:spcPts val="400"/>
                  </a:spcBef>
                  <a:buClr>
                    <a:srgbClr val="ff000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72400" y="4048200"/>
                <a:ext cx="685800" cy="304560"/>
              </a:xfrm>
              <a:prstGeom prst="wedgeEllipseCallout">
                <a:avLst>
                  <a:gd name="adj1" fmla="val -39583"/>
                  <a:gd name="adj2" fmla="val 6979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Y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1E75-8CDC-4350-A63A-AEB80E3FDA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320840" y="2057400"/>
            <a:ext cx="4952880" cy="3581280"/>
            <a:chOff x="1320840" y="2057400"/>
            <a:chExt cx="4952880" cy="3581280"/>
          </a:xfrm>
        </p:grpSpPr>
        <p:sp>
          <p:nvSpPr>
            <p:cNvPr id="360" name=""/>
            <p:cNvSpPr/>
            <p:nvPr/>
          </p:nvSpPr>
          <p:spPr>
            <a:xfrm>
              <a:off x="1320840" y="2603520"/>
              <a:ext cx="4952880" cy="3035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00200" y="2057400"/>
              <a:ext cx="3505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Elaborate initial 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2" name=""/>
            <p:cNvGraphicFramePr/>
            <p:nvPr/>
          </p:nvGraphicFramePr>
          <p:xfrm>
            <a:off x="1371600" y="2666880"/>
            <a:ext cx="4800600" cy="286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666880"/>
                      <a:ext cx="4800600" cy="286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33720" y="2730600"/>
          <a:ext cx="396216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730600"/>
                    <a:ext cx="396216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930320" y="3276720"/>
          <a:ext cx="320040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0320" y="3276720"/>
                    <a:ext cx="3200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990880" y="4768920"/>
          <a:ext cx="183960" cy="9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0880" y="4768920"/>
                    <a:ext cx="183960" cy="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590920" y="4889520"/>
          <a:ext cx="1003320" cy="6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889520"/>
                    <a:ext cx="1003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048120" y="2666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66cc"/>
                </a:solidFill>
                <a:latin typeface="Tahoma"/>
                <a:ea typeface="Times New Roman"/>
              </a:rPr>
              <a:t>Add spati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638680" y="4419720"/>
            <a:ext cx="2895840" cy="1828800"/>
            <a:chOff x="5638680" y="4419720"/>
            <a:chExt cx="2895840" cy="1828800"/>
          </a:xfrm>
        </p:grpSpPr>
        <p:sp>
          <p:nvSpPr>
            <p:cNvPr id="376" name=""/>
            <p:cNvSpPr/>
            <p:nvPr/>
          </p:nvSpPr>
          <p:spPr>
            <a:xfrm>
              <a:off x="7086600" y="4419720"/>
              <a:ext cx="0" cy="129528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38680" y="5791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Elaborate final 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324480" y="914400"/>
            <a:ext cx="2057400" cy="1333440"/>
            <a:chOff x="6324480" y="914400"/>
            <a:chExt cx="2057400" cy="1333440"/>
          </a:xfrm>
        </p:grpSpPr>
        <p:grpSp>
          <p:nvGrpSpPr>
            <p:cNvPr id="380" name=""/>
            <p:cNvGrpSpPr/>
            <p:nvPr/>
          </p:nvGrpSpPr>
          <p:grpSpPr>
            <a:xfrm>
              <a:off x="6324480" y="1143000"/>
              <a:ext cx="2057400" cy="1104840"/>
              <a:chOff x="6324480" y="1143000"/>
              <a:chExt cx="2057400" cy="110484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6946560" y="1143000"/>
                <a:ext cx="368280" cy="676080"/>
                <a:chOff x="6946560" y="1143000"/>
                <a:chExt cx="368280" cy="6760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19640" y="1143000"/>
                  <a:ext cx="228600" cy="22860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137000" y="1371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46560" y="1495440"/>
                  <a:ext cx="36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6989040" y="1666800"/>
                  <a:ext cx="304560" cy="152280"/>
                  <a:chOff x="6989040" y="1666800"/>
                  <a:chExt cx="304560" cy="15228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>
                    <a:off x="6989040" y="166680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141680" y="1666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>
                <a:off x="6324480" y="1790640"/>
                <a:ext cx="2057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ff66cc"/>
                    </a:solidFill>
                    <a:latin typeface="Tahoma"/>
                    <a:ea typeface="Times New Roman"/>
                  </a:rPr>
                  <a:t>Demand driv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188120" y="914400"/>
              <a:ext cx="685800" cy="304920"/>
            </a:xfrm>
            <a:prstGeom prst="wedgeEllipseCallout">
              <a:avLst>
                <a:gd name="adj1" fmla="val -39583"/>
                <a:gd name="adj2" fmla="val 697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324480" y="3352680"/>
            <a:ext cx="2438280" cy="1523880"/>
            <a:chOff x="6324480" y="3352680"/>
            <a:chExt cx="2438280" cy="1523880"/>
          </a:xfrm>
        </p:grpSpPr>
        <p:grpSp>
          <p:nvGrpSpPr>
            <p:cNvPr id="391" name=""/>
            <p:cNvGrpSpPr/>
            <p:nvPr/>
          </p:nvGrpSpPr>
          <p:grpSpPr>
            <a:xfrm>
              <a:off x="6324480" y="3657600"/>
              <a:ext cx="2438280" cy="1218960"/>
              <a:chOff x="6324480" y="3657600"/>
              <a:chExt cx="2438280" cy="1218960"/>
            </a:xfrm>
          </p:grpSpPr>
          <p:sp>
            <p:nvSpPr>
              <p:cNvPr id="392" name=""/>
              <p:cNvSpPr/>
              <p:nvPr/>
            </p:nvSpPr>
            <p:spPr>
              <a:xfrm>
                <a:off x="6324480" y="3657600"/>
                <a:ext cx="1524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ff66cc"/>
                    </a:solidFill>
                    <a:latin typeface="Tahoma"/>
                    <a:ea typeface="Times New Roman"/>
                  </a:rPr>
                  <a:t>Check data availabi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7848720" y="3733920"/>
                <a:ext cx="914040" cy="1142640"/>
                <a:chOff x="7848720" y="3733920"/>
                <a:chExt cx="914040" cy="11426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848720" y="3733920"/>
                  <a:ext cx="812520" cy="1142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848720" y="4076640"/>
                  <a:ext cx="914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Source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6324480" y="4267080"/>
                <a:ext cx="15242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8077320" y="33526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514600" y="3276360"/>
            <a:ext cx="1066680" cy="990720"/>
            <a:chOff x="2514600" y="3276360"/>
            <a:chExt cx="1066680" cy="990720"/>
          </a:xfrm>
        </p:grpSpPr>
        <p:sp>
          <p:nvSpPr>
            <p:cNvPr id="399" name=""/>
            <p:cNvSpPr/>
            <p:nvPr/>
          </p:nvSpPr>
          <p:spPr>
            <a:xfrm>
              <a:off x="2514600" y="3276720"/>
              <a:ext cx="1066680" cy="990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590920" y="3276360"/>
              <a:ext cx="990360" cy="990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324480" y="2438280"/>
            <a:ext cx="2362320" cy="1218960"/>
            <a:chOff x="6324480" y="2438280"/>
            <a:chExt cx="2362320" cy="1218960"/>
          </a:xfrm>
        </p:grpSpPr>
        <p:sp>
          <p:nvSpPr>
            <p:cNvPr id="402" name="File"/>
            <p:cNvSpPr/>
            <p:nvPr/>
          </p:nvSpPr>
          <p:spPr>
            <a:xfrm>
              <a:off x="7315200" y="2438280"/>
              <a:ext cx="1371600" cy="685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ter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324480" y="2895120"/>
              <a:ext cx="914400" cy="76212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3E32-A500-464D-8DCF-1171DD686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324480" y="1143000"/>
            <a:ext cx="2057400" cy="1104840"/>
            <a:chOff x="6324480" y="1143000"/>
            <a:chExt cx="2057400" cy="1104840"/>
          </a:xfrm>
        </p:grpSpPr>
        <p:grpSp>
          <p:nvGrpSpPr>
            <p:cNvPr id="407" name=""/>
            <p:cNvGrpSpPr/>
            <p:nvPr/>
          </p:nvGrpSpPr>
          <p:grpSpPr>
            <a:xfrm>
              <a:off x="6946560" y="1143000"/>
              <a:ext cx="368280" cy="676080"/>
              <a:chOff x="6946560" y="1143000"/>
              <a:chExt cx="368280" cy="676080"/>
            </a:xfrm>
          </p:grpSpPr>
          <p:sp>
            <p:nvSpPr>
              <p:cNvPr id="408" name=""/>
              <p:cNvSpPr/>
              <p:nvPr/>
            </p:nvSpPr>
            <p:spPr>
              <a:xfrm>
                <a:off x="7019640" y="11430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37000" y="1371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46560" y="14954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989040" y="1666800"/>
                <a:ext cx="304560" cy="152280"/>
                <a:chOff x="6989040" y="1666800"/>
                <a:chExt cx="304560" cy="152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6989040" y="16668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141680" y="16668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6324480" y="179064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Demand dr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320840" y="2057400"/>
            <a:ext cx="4952880" cy="3581280"/>
            <a:chOff x="1320840" y="2057400"/>
            <a:chExt cx="4952880" cy="3581280"/>
          </a:xfrm>
        </p:grpSpPr>
        <p:grpSp>
          <p:nvGrpSpPr>
            <p:cNvPr id="416" name=""/>
            <p:cNvGrpSpPr/>
            <p:nvPr/>
          </p:nvGrpSpPr>
          <p:grpSpPr>
            <a:xfrm>
              <a:off x="1320840" y="2057400"/>
              <a:ext cx="4952880" cy="3581280"/>
              <a:chOff x="1320840" y="2057400"/>
              <a:chExt cx="4952880" cy="358128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320840" y="2057400"/>
                <a:ext cx="4952880" cy="3581280"/>
                <a:chOff x="1320840" y="2057400"/>
                <a:chExt cx="4952880" cy="3581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320840" y="2603520"/>
                  <a:ext cx="4952880" cy="30351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19" name=""/>
                <p:cNvGraphicFramePr/>
                <p:nvPr/>
              </p:nvGraphicFramePr>
              <p:xfrm>
                <a:off x="1371600" y="2666880"/>
                <a:ext cx="4800600" cy="2860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2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71600" y="2666880"/>
                          <a:ext cx="4800600" cy="2860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21" name=""/>
                <p:cNvSpPr/>
                <p:nvPr/>
              </p:nvSpPr>
              <p:spPr>
                <a:xfrm>
                  <a:off x="1600200" y="2057400"/>
                  <a:ext cx="3505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2000" spc="-1" strike="noStrike">
                      <a:solidFill>
                        <a:srgbClr val="ff66cc"/>
                      </a:solidFill>
                      <a:latin typeface="Tahoma"/>
                      <a:ea typeface="Times New Roman"/>
                    </a:rPr>
                    <a:t>Elaborate initial schem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22" name=""/>
              <p:cNvGraphicFramePr/>
              <p:nvPr/>
            </p:nvGraphicFramePr>
            <p:xfrm>
              <a:off x="1930320" y="3276720"/>
              <a:ext cx="3200400" cy="84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30320" y="3276720"/>
                        <a:ext cx="3200400" cy="84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4" name=""/>
              <p:cNvGraphicFramePr/>
              <p:nvPr/>
            </p:nvGraphicFramePr>
            <p:xfrm>
              <a:off x="2990880" y="4768920"/>
              <a:ext cx="183960" cy="9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990880" y="4768920"/>
                        <a:ext cx="183960" cy="9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6" name=""/>
              <p:cNvGraphicFramePr/>
              <p:nvPr/>
            </p:nvGraphicFramePr>
            <p:xfrm>
              <a:off x="2590920" y="4892760"/>
              <a:ext cx="1003320" cy="631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90920" y="4892760"/>
                        <a:ext cx="100332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8" name=""/>
            <p:cNvGraphicFramePr/>
            <p:nvPr/>
          </p:nvGraphicFramePr>
          <p:xfrm>
            <a:off x="2133720" y="2730600"/>
            <a:ext cx="3962160" cy="186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33720" y="2730600"/>
                      <a:ext cx="3962160" cy="186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0" name=""/>
          <p:cNvGrpSpPr/>
          <p:nvPr/>
        </p:nvGrpSpPr>
        <p:grpSpPr>
          <a:xfrm>
            <a:off x="3048120" y="2666880"/>
            <a:ext cx="2438280" cy="381240"/>
            <a:chOff x="3048120" y="2666880"/>
            <a:chExt cx="2438280" cy="381240"/>
          </a:xfrm>
        </p:grpSpPr>
        <p:sp>
          <p:nvSpPr>
            <p:cNvPr id="431" name=""/>
            <p:cNvSpPr/>
            <p:nvPr/>
          </p:nvSpPr>
          <p:spPr>
            <a:xfrm>
              <a:off x="3048120" y="2666880"/>
              <a:ext cx="2438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66cc"/>
                  </a:solidFill>
                  <a:latin typeface="Tahoma"/>
                  <a:ea typeface="Times New Roman"/>
                </a:rPr>
                <a:t>Add spatial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98880" y="2857680"/>
              <a:ext cx="228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01080" y="914400"/>
            <a:ext cx="685800" cy="30492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638680" y="3352680"/>
            <a:ext cx="3124080" cy="2895840"/>
            <a:chOff x="5638680" y="3352680"/>
            <a:chExt cx="3124080" cy="2895840"/>
          </a:xfrm>
        </p:grpSpPr>
        <p:grpSp>
          <p:nvGrpSpPr>
            <p:cNvPr id="436" name=""/>
            <p:cNvGrpSpPr/>
            <p:nvPr/>
          </p:nvGrpSpPr>
          <p:grpSpPr>
            <a:xfrm>
              <a:off x="5638680" y="4419720"/>
              <a:ext cx="2895840" cy="1828800"/>
              <a:chOff x="5638680" y="4419720"/>
              <a:chExt cx="2895840" cy="1828800"/>
            </a:xfrm>
          </p:grpSpPr>
          <p:sp>
            <p:nvSpPr>
              <p:cNvPr id="437" name=""/>
              <p:cNvSpPr/>
              <p:nvPr/>
            </p:nvSpPr>
            <p:spPr>
              <a:xfrm>
                <a:off x="7086600" y="4419720"/>
                <a:ext cx="0" cy="1295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38680" y="5791320"/>
                <a:ext cx="289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ff66cc"/>
                    </a:solidFill>
                    <a:latin typeface="Tahoma"/>
                    <a:ea typeface="Times New Roman"/>
                  </a:rPr>
                  <a:t>Elaborate final sche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6324480" y="3352680"/>
              <a:ext cx="2438280" cy="1523880"/>
              <a:chOff x="6324480" y="3352680"/>
              <a:chExt cx="2438280" cy="1523880"/>
            </a:xfrm>
          </p:grpSpPr>
          <p:sp>
            <p:nvSpPr>
              <p:cNvPr id="440" name=""/>
              <p:cNvSpPr/>
              <p:nvPr/>
            </p:nvSpPr>
            <p:spPr>
              <a:xfrm>
                <a:off x="6324480" y="3657600"/>
                <a:ext cx="1524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ff66cc"/>
                    </a:solidFill>
                    <a:latin typeface="Tahoma"/>
                    <a:ea typeface="Times New Roman"/>
                  </a:rPr>
                  <a:t>Check data availabi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24480" y="4267080"/>
                <a:ext cx="15242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7848720" y="3733920"/>
                <a:ext cx="914040" cy="1142640"/>
                <a:chOff x="7848720" y="3733920"/>
                <a:chExt cx="914040" cy="11426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48720" y="3733920"/>
                  <a:ext cx="812520" cy="1142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48720" y="4076640"/>
                  <a:ext cx="914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Source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8077320" y="33526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400" spc="-1" strike="noStrike">
                    <a:solidFill>
                      <a:srgbClr val="ff0000"/>
                    </a:solidFill>
                    <a:latin typeface="Tahoma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E51B-8137-45A3-B370-61566F06D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61920" y="4087440"/>
            <a:ext cx="366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58560" y="3072960"/>
            <a:ext cx="3846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dentify source system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353052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spatial data inclu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2057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733920" y="1905120"/>
            <a:ext cx="685800" cy="761760"/>
            <a:chOff x="3733920" y="1905120"/>
            <a:chExt cx="685800" cy="761760"/>
          </a:xfrm>
        </p:grpSpPr>
        <p:sp>
          <p:nvSpPr>
            <p:cNvPr id="453" name=""/>
            <p:cNvSpPr/>
            <p:nvPr/>
          </p:nvSpPr>
          <p:spPr>
            <a:xfrm>
              <a:off x="3733920" y="190512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33920" y="213372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244520" y="4038480"/>
            <a:ext cx="4191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pply deriv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13480" y="2819520"/>
            <a:ext cx="2311200" cy="1041120"/>
            <a:chOff x="5613480" y="2819520"/>
            <a:chExt cx="2311200" cy="1041120"/>
          </a:xfrm>
        </p:grpSpPr>
        <p:grpSp>
          <p:nvGrpSpPr>
            <p:cNvPr id="457" name=""/>
            <p:cNvGrpSpPr/>
            <p:nvPr/>
          </p:nvGrpSpPr>
          <p:grpSpPr>
            <a:xfrm>
              <a:off x="5613480" y="3098880"/>
              <a:ext cx="685800" cy="761760"/>
              <a:chOff x="5613480" y="3098880"/>
              <a:chExt cx="685800" cy="761760"/>
            </a:xfrm>
          </p:grpSpPr>
          <p:sp>
            <p:nvSpPr>
              <p:cNvPr id="458" name=""/>
              <p:cNvSpPr/>
              <p:nvPr/>
            </p:nvSpPr>
            <p:spPr>
              <a:xfrm>
                <a:off x="5613480" y="3098880"/>
                <a:ext cx="609480" cy="761760"/>
              </a:xfrm>
              <a:prstGeom prst="can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13480" y="332748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Sourc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5943600" y="2819520"/>
              <a:ext cx="685800" cy="304560"/>
            </a:xfrm>
            <a:prstGeom prst="wedgeEllipseCallout">
              <a:avLst>
                <a:gd name="adj1" fmla="val -39583"/>
                <a:gd name="adj2" fmla="val 697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6934320" y="3098880"/>
              <a:ext cx="685800" cy="761760"/>
              <a:chOff x="6934320" y="3098880"/>
              <a:chExt cx="685800" cy="761760"/>
            </a:xfrm>
          </p:grpSpPr>
          <p:sp>
            <p:nvSpPr>
              <p:cNvPr id="462" name=""/>
              <p:cNvSpPr/>
              <p:nvPr/>
            </p:nvSpPr>
            <p:spPr>
              <a:xfrm>
                <a:off x="6934320" y="3098880"/>
                <a:ext cx="609480" cy="761760"/>
              </a:xfrm>
              <a:prstGeom prst="can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34320" y="332748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Sourc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7238880" y="2819520"/>
              <a:ext cx="685800" cy="304560"/>
            </a:xfrm>
            <a:prstGeom prst="wedgeEllipseCallout">
              <a:avLst>
                <a:gd name="adj1" fmla="val -39583"/>
                <a:gd name="adj2" fmla="val 697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36BC-13A9-48DB-9DB3-E96910AEA1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7480440" y="2924280"/>
            <a:ext cx="685800" cy="761760"/>
            <a:chOff x="7480440" y="2924280"/>
            <a:chExt cx="685800" cy="761760"/>
          </a:xfrm>
        </p:grpSpPr>
        <p:sp>
          <p:nvSpPr>
            <p:cNvPr id="466" name=""/>
            <p:cNvSpPr/>
            <p:nvPr/>
          </p:nvSpPr>
          <p:spPr>
            <a:xfrm>
              <a:off x="7480440" y="292428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80440" y="315288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-961920" y="4087440"/>
            <a:ext cx="366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19520"/>
            <a:ext cx="6172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at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inclusion of spatial sup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tial data is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onsidered during deriv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2666880"/>
            <a:ext cx="685800" cy="30492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47920" y="3886200"/>
            <a:ext cx="7010280" cy="1295280"/>
            <a:chOff x="1447920" y="3886200"/>
            <a:chExt cx="7010280" cy="1295280"/>
          </a:xfrm>
        </p:grpSpPr>
        <p:grpSp>
          <p:nvGrpSpPr>
            <p:cNvPr id="474" name=""/>
            <p:cNvGrpSpPr/>
            <p:nvPr/>
          </p:nvGrpSpPr>
          <p:grpSpPr>
            <a:xfrm>
              <a:off x="7518240" y="4143240"/>
              <a:ext cx="685800" cy="761760"/>
              <a:chOff x="7518240" y="4143240"/>
              <a:chExt cx="685800" cy="761760"/>
            </a:xfrm>
          </p:grpSpPr>
          <p:sp>
            <p:nvSpPr>
              <p:cNvPr id="475" name=""/>
              <p:cNvSpPr/>
              <p:nvPr/>
            </p:nvSpPr>
            <p:spPr>
              <a:xfrm>
                <a:off x="7518240" y="4143240"/>
                <a:ext cx="609480" cy="761760"/>
              </a:xfrm>
              <a:prstGeom prst="can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18240" y="43718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Sourc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1447920" y="3962520"/>
              <a:ext cx="6095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ahoma"/>
                </a:rPr>
                <a:t>Early</a:t>
              </a:r>
              <a:r>
                <a:rPr b="0" lang="en-GB" sz="2400" spc="-1" strike="noStrike">
                  <a:solidFill>
                    <a:srgbClr val="000066"/>
                  </a:solidFill>
                  <a:latin typeface="Tahoma"/>
                </a:rPr>
                <a:t> inclusion of spatial suppor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Spatial data </a:t>
              </a:r>
              <a:r>
                <a:rPr b="0" lang="en-GB" sz="2000" spc="-1" strike="noStrike">
                  <a:solidFill>
                    <a:srgbClr val="ff0000"/>
                  </a:solidFill>
                  <a:latin typeface="Tahoma"/>
                </a:rPr>
                <a:t>is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considered during derivation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72400" y="3886200"/>
              <a:ext cx="685800" cy="304920"/>
            </a:xfrm>
            <a:prstGeom prst="wedgeEllipseCallout">
              <a:avLst>
                <a:gd name="adj1" fmla="val -39583"/>
                <a:gd name="adj2" fmla="val 697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419720" y="2057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581280" y="1905120"/>
            <a:ext cx="685800" cy="761760"/>
            <a:chOff x="3581280" y="1905120"/>
            <a:chExt cx="685800" cy="761760"/>
          </a:xfrm>
        </p:grpSpPr>
        <p:sp>
          <p:nvSpPr>
            <p:cNvPr id="481" name=""/>
            <p:cNvSpPr/>
            <p:nvPr/>
          </p:nvSpPr>
          <p:spPr>
            <a:xfrm>
              <a:off x="3581280" y="190512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13372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08A1-493F-4529-B04D-AF0DE430F2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219320" y="2666880"/>
            <a:ext cx="3200400" cy="3733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705720" y="1019160"/>
            <a:ext cx="685800" cy="761760"/>
            <a:chOff x="6705720" y="1019160"/>
            <a:chExt cx="685800" cy="761760"/>
          </a:xfrm>
        </p:grpSpPr>
        <p:sp>
          <p:nvSpPr>
            <p:cNvPr id="488" name=""/>
            <p:cNvSpPr/>
            <p:nvPr/>
          </p:nvSpPr>
          <p:spPr>
            <a:xfrm>
              <a:off x="6705720" y="101916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12477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997680" y="762120"/>
            <a:ext cx="685800" cy="30456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1828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371600" y="2692440"/>
          <a:ext cx="3003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92440"/>
                    <a:ext cx="3003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4" name=""/>
          <p:cNvGrpSpPr/>
          <p:nvPr/>
        </p:nvGrpSpPr>
        <p:grpSpPr>
          <a:xfrm>
            <a:off x="5257800" y="2666880"/>
            <a:ext cx="3200400" cy="3733920"/>
            <a:chOff x="5257800" y="2666880"/>
            <a:chExt cx="3200400" cy="3733920"/>
          </a:xfrm>
        </p:grpSpPr>
        <p:sp>
          <p:nvSpPr>
            <p:cNvPr id="495" name=""/>
            <p:cNvSpPr/>
            <p:nvPr/>
          </p:nvSpPr>
          <p:spPr>
            <a:xfrm>
              <a:off x="5257800" y="2666880"/>
              <a:ext cx="3200400" cy="3733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6" name=""/>
            <p:cNvGraphicFramePr/>
            <p:nvPr/>
          </p:nvGraphicFramePr>
          <p:xfrm>
            <a:off x="5389560" y="2857680"/>
            <a:ext cx="2925720" cy="331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89560" y="2857680"/>
                      <a:ext cx="2925720" cy="33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8" name=""/>
          <p:cNvSpPr/>
          <p:nvPr/>
        </p:nvSpPr>
        <p:spPr>
          <a:xfrm>
            <a:off x="3886200" y="2362320"/>
            <a:ext cx="1828800" cy="2286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1981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Deriv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286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our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2286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357D-36C0-428A-BE54-C63F9DB9AE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800600" y="2743200"/>
            <a:ext cx="320040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2743200"/>
            <a:ext cx="327672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705720" y="942840"/>
            <a:ext cx="685800" cy="761760"/>
            <a:chOff x="6705720" y="942840"/>
            <a:chExt cx="685800" cy="761760"/>
          </a:xfrm>
        </p:grpSpPr>
        <p:sp>
          <p:nvSpPr>
            <p:cNvPr id="508" name=""/>
            <p:cNvSpPr/>
            <p:nvPr/>
          </p:nvSpPr>
          <p:spPr>
            <a:xfrm>
              <a:off x="6705720" y="94284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05720" y="1171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997680" y="685800"/>
            <a:ext cx="685800" cy="30492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1752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219320" y="2819520"/>
          <a:ext cx="305568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3055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3048120" y="1981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Determine user’s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876920" y="2781360"/>
          <a:ext cx="2235240" cy="34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781360"/>
                    <a:ext cx="223524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3886200" y="2438280"/>
            <a:ext cx="1828800" cy="2286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302080" y="2793960"/>
            <a:ext cx="3308400" cy="2044800"/>
            <a:chOff x="5302080" y="2793960"/>
            <a:chExt cx="3308400" cy="2044800"/>
          </a:xfrm>
        </p:grpSpPr>
        <p:sp>
          <p:nvSpPr>
            <p:cNvPr id="519" name=""/>
            <p:cNvSpPr/>
            <p:nvPr/>
          </p:nvSpPr>
          <p:spPr>
            <a:xfrm>
              <a:off x="6553080" y="297180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ba89"/>
                  </a:solidFill>
                  <a:latin typeface="Tahoma"/>
                  <a:ea typeface="Times New Roman"/>
                </a:rPr>
                <a:t>Add spatial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0" name=""/>
            <p:cNvGraphicFramePr/>
            <p:nvPr/>
          </p:nvGraphicFramePr>
          <p:xfrm>
            <a:off x="5302080" y="2793960"/>
            <a:ext cx="822600" cy="204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02080" y="2793960"/>
                      <a:ext cx="822600" cy="20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2" name="File"/>
          <p:cNvSpPr/>
          <p:nvPr/>
        </p:nvSpPr>
        <p:spPr>
          <a:xfrm>
            <a:off x="6553080" y="2133720"/>
            <a:ext cx="1371600" cy="6858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43000" y="2362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2362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52D6-3265-42EE-B5C5-1772F7DCD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705720" y="1019160"/>
            <a:ext cx="685800" cy="761760"/>
            <a:chOff x="6705720" y="1019160"/>
            <a:chExt cx="685800" cy="761760"/>
          </a:xfrm>
        </p:grpSpPr>
        <p:sp>
          <p:nvSpPr>
            <p:cNvPr id="529" name=""/>
            <p:cNvSpPr/>
            <p:nvPr/>
          </p:nvSpPr>
          <p:spPr>
            <a:xfrm>
              <a:off x="6705720" y="101916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5720" y="12477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997680" y="762120"/>
            <a:ext cx="685800" cy="30456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828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19320" y="1981080"/>
            <a:ext cx="7162560" cy="4191120"/>
            <a:chOff x="1219320" y="1981080"/>
            <a:chExt cx="7162560" cy="4191120"/>
          </a:xfrm>
        </p:grpSpPr>
        <p:grpSp>
          <p:nvGrpSpPr>
            <p:cNvPr id="534" name=""/>
            <p:cNvGrpSpPr/>
            <p:nvPr/>
          </p:nvGrpSpPr>
          <p:grpSpPr>
            <a:xfrm>
              <a:off x="1219320" y="1981080"/>
              <a:ext cx="7162560" cy="4191120"/>
              <a:chOff x="1219320" y="1981080"/>
              <a:chExt cx="7162560" cy="4191120"/>
            </a:xfrm>
          </p:grpSpPr>
          <p:sp>
            <p:nvSpPr>
              <p:cNvPr id="535" name=""/>
              <p:cNvSpPr/>
              <p:nvPr/>
            </p:nvSpPr>
            <p:spPr>
              <a:xfrm>
                <a:off x="5257800" y="2705040"/>
                <a:ext cx="3124080" cy="3429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219320" y="2666880"/>
                <a:ext cx="3047760" cy="3505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37" name=""/>
              <p:cNvGraphicFramePr/>
              <p:nvPr/>
            </p:nvGraphicFramePr>
            <p:xfrm>
              <a:off x="1371600" y="2768760"/>
              <a:ext cx="2732040" cy="3327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2768760"/>
                        <a:ext cx="2732040" cy="332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39" name=""/>
              <p:cNvGraphicFramePr/>
              <p:nvPr/>
            </p:nvGraphicFramePr>
            <p:xfrm>
              <a:off x="5389560" y="2781360"/>
              <a:ext cx="2916360" cy="32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4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89560" y="2781360"/>
                        <a:ext cx="2916360" cy="32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1" name=""/>
              <p:cNvSpPr/>
              <p:nvPr/>
            </p:nvSpPr>
            <p:spPr>
              <a:xfrm>
                <a:off x="3886200" y="2362320"/>
                <a:ext cx="1828800" cy="228600"/>
              </a:xfrm>
              <a:custGeom>
                <a:avLst/>
                <a:gdLst>
                  <a:gd name="textAreaLeft" fmla="*/ 320040 w 1828800"/>
                  <a:gd name="textAreaRight" fmla="*/ 1325880 w 1828800"/>
                  <a:gd name="textAreaTop" fmla="*/ 30600 h 228600"/>
                  <a:gd name="textAreaBottom" fmla="*/ 1980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581280" y="1981080"/>
                <a:ext cx="2514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ba89"/>
                    </a:solidFill>
                    <a:latin typeface="Tahoma"/>
                    <a:ea typeface="Times New Roman"/>
                  </a:rPr>
                  <a:t>Derivation pro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43" name=""/>
            <p:cNvGraphicFramePr/>
            <p:nvPr/>
          </p:nvGraphicFramePr>
          <p:xfrm>
            <a:off x="5911920" y="2819520"/>
            <a:ext cx="1347840" cy="179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1920" y="2819520"/>
                      <a:ext cx="134784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5334120" y="274320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patial data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19320" y="23367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our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233676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C580-FA8B-442F-9494-FD5DD8794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sentation Pl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patial multidimensional mod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W design methodolog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quirements specifications and conceptual modeling for SD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A540-752E-4178-9CC8-D103D991C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219320" y="2438280"/>
            <a:ext cx="312408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705720" y="1019160"/>
            <a:ext cx="685800" cy="761760"/>
            <a:chOff x="6705720" y="1019160"/>
            <a:chExt cx="685800" cy="761760"/>
          </a:xfrm>
        </p:grpSpPr>
        <p:sp>
          <p:nvSpPr>
            <p:cNvPr id="553" name=""/>
            <p:cNvSpPr/>
            <p:nvPr/>
          </p:nvSpPr>
          <p:spPr>
            <a:xfrm>
              <a:off x="6705720" y="1019160"/>
              <a:ext cx="609480" cy="76176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12477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997680" y="762120"/>
            <a:ext cx="685800" cy="30456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48520" y="1828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351080" y="2514600"/>
          <a:ext cx="2916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2514600"/>
                    <a:ext cx="2916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1873080" y="2552760"/>
          <a:ext cx="134784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3080" y="2552760"/>
                    <a:ext cx="13478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5105520" y="32004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Determine users’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6564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3962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ba89"/>
                </a:solidFill>
                <a:latin typeface="Tahoma"/>
                <a:ea typeface="Times New Roman"/>
              </a:rPr>
              <a:t>Elaborate fina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24480" y="35053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76B7-54D9-453A-9093-1EA2A8DE9B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ments specification and 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58560" y="2819520"/>
            <a:ext cx="6970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bination of both previously-presented approach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438280" y="1981080"/>
            <a:ext cx="4343400" cy="761760"/>
            <a:chOff x="2438280" y="1981080"/>
            <a:chExt cx="4343400" cy="761760"/>
          </a:xfrm>
        </p:grpSpPr>
        <p:sp>
          <p:nvSpPr>
            <p:cNvPr id="570" name=""/>
            <p:cNvSpPr/>
            <p:nvPr/>
          </p:nvSpPr>
          <p:spPr>
            <a:xfrm>
              <a:off x="3733920" y="2133360"/>
              <a:ext cx="3047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Demand/supply dr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2438280" y="1981080"/>
              <a:ext cx="1206720" cy="761760"/>
              <a:chOff x="2438280" y="1981080"/>
              <a:chExt cx="1206720" cy="76176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438280" y="2031840"/>
                <a:ext cx="368280" cy="676080"/>
                <a:chOff x="2438280" y="2031840"/>
                <a:chExt cx="368280" cy="6760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511360" y="2031840"/>
                  <a:ext cx="228600" cy="228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628720" y="2260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438280" y="2384280"/>
                  <a:ext cx="36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2480760" y="2555640"/>
                  <a:ext cx="304560" cy="152280"/>
                  <a:chOff x="2480760" y="2555640"/>
                  <a:chExt cx="304560" cy="1522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>
                    <a:off x="2480760" y="255564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633400" y="255564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2959200" y="1981080"/>
                <a:ext cx="685800" cy="761760"/>
                <a:chOff x="2959200" y="1981080"/>
                <a:chExt cx="685800" cy="7617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59200" y="1981080"/>
                  <a:ext cx="609480" cy="761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959200" y="2209320"/>
                  <a:ext cx="685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Source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2" name=""/>
          <p:cNvSpPr/>
          <p:nvPr/>
        </p:nvSpPr>
        <p:spPr>
          <a:xfrm>
            <a:off x="1257480" y="3581280"/>
            <a:ext cx="6970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t also consider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at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 or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arly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inclusion of spatial support depend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71600" y="4267080"/>
            <a:ext cx="4648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ther users are familiar with spatial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ther source systems include spati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3276720"/>
            <a:ext cx="685800" cy="30456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85800" cy="304560"/>
          </a:xfrm>
          <a:prstGeom prst="wedgeEllipseCallout">
            <a:avLst>
              <a:gd name="adj1" fmla="val -39583"/>
              <a:gd name="adj2" fmla="val 69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3DFD-9C40-4F7A-9946-76E61E77F2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ual mode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886200" y="3111480"/>
            <a:ext cx="1447920" cy="1828440"/>
            <a:chOff x="3886200" y="3111480"/>
            <a:chExt cx="1447920" cy="1828440"/>
          </a:xfrm>
        </p:grpSpPr>
        <p:sp>
          <p:nvSpPr>
            <p:cNvPr id="590" name=""/>
            <p:cNvSpPr/>
            <p:nvPr/>
          </p:nvSpPr>
          <p:spPr>
            <a:xfrm>
              <a:off x="3886200" y="3111480"/>
              <a:ext cx="914400" cy="60948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886200" y="4330440"/>
              <a:ext cx="914400" cy="60948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43400" y="3727440"/>
              <a:ext cx="990720" cy="58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334120" y="2895480"/>
            <a:ext cx="2895480" cy="2286000"/>
            <a:chOff x="5334120" y="2895480"/>
            <a:chExt cx="2895480" cy="2286000"/>
          </a:xfrm>
        </p:grpSpPr>
        <p:sp>
          <p:nvSpPr>
            <p:cNvPr id="594" name=""/>
            <p:cNvSpPr/>
            <p:nvPr/>
          </p:nvSpPr>
          <p:spPr>
            <a:xfrm>
              <a:off x="5791320" y="2895480"/>
              <a:ext cx="2438280" cy="2286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34120" y="403848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6" name=""/>
            <p:cNvGraphicFramePr/>
            <p:nvPr/>
          </p:nvGraphicFramePr>
          <p:xfrm>
            <a:off x="5943600" y="2933640"/>
            <a:ext cx="2209680" cy="22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3600" y="2933640"/>
                      <a:ext cx="220968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8" name=""/>
          <p:cNvGrpSpPr/>
          <p:nvPr/>
        </p:nvGrpSpPr>
        <p:grpSpPr>
          <a:xfrm>
            <a:off x="1447920" y="1949400"/>
            <a:ext cx="2438280" cy="2165400"/>
            <a:chOff x="1447920" y="1949400"/>
            <a:chExt cx="2438280" cy="2165400"/>
          </a:xfrm>
        </p:grpSpPr>
        <p:sp>
          <p:nvSpPr>
            <p:cNvPr id="599" name=""/>
            <p:cNvSpPr/>
            <p:nvPr/>
          </p:nvSpPr>
          <p:spPr>
            <a:xfrm>
              <a:off x="1447920" y="2286000"/>
              <a:ext cx="2438280" cy="1828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1523880" y="2362320"/>
            <a:ext cx="2210040" cy="16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362320"/>
                      <a:ext cx="2210040" cy="16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"/>
            <p:cNvSpPr/>
            <p:nvPr/>
          </p:nvSpPr>
          <p:spPr>
            <a:xfrm>
              <a:off x="1828800" y="19494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mand ch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447920" y="4191120"/>
            <a:ext cx="2438280" cy="4610160"/>
            <a:chOff x="1447920" y="4191120"/>
            <a:chExt cx="2438280" cy="4610160"/>
          </a:xfrm>
        </p:grpSpPr>
        <p:sp>
          <p:nvSpPr>
            <p:cNvPr id="604" name=""/>
            <p:cNvSpPr/>
            <p:nvPr/>
          </p:nvSpPr>
          <p:spPr>
            <a:xfrm>
              <a:off x="1447920" y="4495680"/>
              <a:ext cx="2438280" cy="2286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5" name=""/>
            <p:cNvGraphicFramePr/>
            <p:nvPr/>
          </p:nvGraphicFramePr>
          <p:xfrm>
            <a:off x="1601640" y="4508640"/>
            <a:ext cx="2208240" cy="4292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1640" y="4508640"/>
                      <a:ext cx="2208240" cy="42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7" name=""/>
            <p:cNvSpPr/>
            <p:nvPr/>
          </p:nvSpPr>
          <p:spPr>
            <a:xfrm>
              <a:off x="1828800" y="41911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pply ch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15000" y="2057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Demand/supply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6324480" y="1143000"/>
            <a:ext cx="1206720" cy="761760"/>
            <a:chOff x="6324480" y="1143000"/>
            <a:chExt cx="1206720" cy="761760"/>
          </a:xfrm>
        </p:grpSpPr>
        <p:grpSp>
          <p:nvGrpSpPr>
            <p:cNvPr id="611" name=""/>
            <p:cNvGrpSpPr/>
            <p:nvPr/>
          </p:nvGrpSpPr>
          <p:grpSpPr>
            <a:xfrm>
              <a:off x="6324480" y="1193760"/>
              <a:ext cx="368280" cy="676080"/>
              <a:chOff x="6324480" y="1193760"/>
              <a:chExt cx="368280" cy="676080"/>
            </a:xfrm>
          </p:grpSpPr>
          <p:sp>
            <p:nvSpPr>
              <p:cNvPr id="612" name=""/>
              <p:cNvSpPr/>
              <p:nvPr/>
            </p:nvSpPr>
            <p:spPr>
              <a:xfrm>
                <a:off x="6397560" y="119376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514920" y="1422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324480" y="154620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6366960" y="1717560"/>
                <a:ext cx="304560" cy="152280"/>
                <a:chOff x="6366960" y="1717560"/>
                <a:chExt cx="304560" cy="152280"/>
              </a:xfrm>
            </p:grpSpPr>
            <p:sp>
              <p:nvSpPr>
                <p:cNvPr id="616" name=""/>
                <p:cNvSpPr/>
                <p:nvPr/>
              </p:nvSpPr>
              <p:spPr>
                <a:xfrm flipH="1">
                  <a:off x="6366960" y="17175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519600" y="171756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8" name=""/>
            <p:cNvGrpSpPr/>
            <p:nvPr/>
          </p:nvGrpSpPr>
          <p:grpSpPr>
            <a:xfrm>
              <a:off x="6845400" y="1143000"/>
              <a:ext cx="685800" cy="761760"/>
              <a:chOff x="6845400" y="1143000"/>
              <a:chExt cx="685800" cy="761760"/>
            </a:xfrm>
          </p:grpSpPr>
          <p:sp>
            <p:nvSpPr>
              <p:cNvPr id="619" name=""/>
              <p:cNvSpPr/>
              <p:nvPr/>
            </p:nvSpPr>
            <p:spPr>
              <a:xfrm>
                <a:off x="6845400" y="1143000"/>
                <a:ext cx="609480" cy="761760"/>
              </a:xfrm>
              <a:prstGeom prst="can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45400" y="13712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Sourc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7480440" y="5334120"/>
            <a:ext cx="1206000" cy="990000"/>
            <a:chOff x="7480440" y="5334120"/>
            <a:chExt cx="1206000" cy="990000"/>
          </a:xfrm>
        </p:grpSpPr>
        <p:grpSp>
          <p:nvGrpSpPr>
            <p:cNvPr id="622" name=""/>
            <p:cNvGrpSpPr/>
            <p:nvPr/>
          </p:nvGrpSpPr>
          <p:grpSpPr>
            <a:xfrm>
              <a:off x="7480440" y="5562360"/>
              <a:ext cx="1206000" cy="761760"/>
              <a:chOff x="7480440" y="5562360"/>
              <a:chExt cx="1206000" cy="7617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7480440" y="5613120"/>
                <a:ext cx="367920" cy="676080"/>
                <a:chOff x="7480440" y="5613120"/>
                <a:chExt cx="367920" cy="6760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553160" y="5613120"/>
                  <a:ext cx="228240" cy="228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670520" y="58417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480440" y="5965560"/>
                  <a:ext cx="36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7" name=""/>
                <p:cNvGrpSpPr/>
                <p:nvPr/>
              </p:nvGrpSpPr>
              <p:grpSpPr>
                <a:xfrm>
                  <a:off x="7522560" y="6136920"/>
                  <a:ext cx="304560" cy="152280"/>
                  <a:chOff x="7522560" y="6136920"/>
                  <a:chExt cx="304560" cy="15228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>
                    <a:off x="7522560" y="613692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675200" y="613692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0" name=""/>
              <p:cNvGrpSpPr/>
              <p:nvPr/>
            </p:nvGrpSpPr>
            <p:grpSpPr>
              <a:xfrm>
                <a:off x="8001000" y="5562360"/>
                <a:ext cx="685440" cy="761760"/>
                <a:chOff x="8001000" y="5562360"/>
                <a:chExt cx="685440" cy="7617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8001000" y="5562360"/>
                  <a:ext cx="609120" cy="761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001000" y="5790600"/>
                  <a:ext cx="685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Source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3" name=""/>
            <p:cNvSpPr/>
            <p:nvPr/>
          </p:nvSpPr>
          <p:spPr>
            <a:xfrm>
              <a:off x="7785000" y="5334120"/>
              <a:ext cx="685440" cy="304560"/>
            </a:xfrm>
            <a:prstGeom prst="wedgeEllipseCallout">
              <a:avLst>
                <a:gd name="adj1" fmla="val -39583"/>
                <a:gd name="adj2" fmla="val 697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267080" y="5181480"/>
            <a:ext cx="2743200" cy="1143000"/>
            <a:chOff x="4267080" y="5181480"/>
            <a:chExt cx="2743200" cy="1143000"/>
          </a:xfrm>
        </p:grpSpPr>
        <p:sp>
          <p:nvSpPr>
            <p:cNvPr id="635" name=""/>
            <p:cNvSpPr/>
            <p:nvPr/>
          </p:nvSpPr>
          <p:spPr>
            <a:xfrm>
              <a:off x="6172200" y="5181480"/>
              <a:ext cx="0" cy="45720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567684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Add spatial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267080" y="5334120"/>
              <a:ext cx="1206720" cy="990360"/>
              <a:chOff x="4267080" y="5334120"/>
              <a:chExt cx="1206720" cy="99036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4267080" y="5562720"/>
                <a:ext cx="1206720" cy="761760"/>
                <a:chOff x="4267080" y="5562720"/>
                <a:chExt cx="1206720" cy="76176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4267080" y="5613480"/>
                  <a:ext cx="368280" cy="676080"/>
                  <a:chOff x="4267080" y="5613480"/>
                  <a:chExt cx="368280" cy="67608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4340160" y="5613480"/>
                    <a:ext cx="228600" cy="228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457520" y="584208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267080" y="5965920"/>
                    <a:ext cx="36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4309560" y="6137280"/>
                    <a:ext cx="304560" cy="152280"/>
                    <a:chOff x="4309560" y="6137280"/>
                    <a:chExt cx="304560" cy="1522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flipH="1">
                      <a:off x="4309560" y="6137280"/>
                      <a:ext cx="15228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462200" y="6137280"/>
                      <a:ext cx="15192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4788000" y="5562720"/>
                  <a:ext cx="685800" cy="761760"/>
                  <a:chOff x="4788000" y="5562720"/>
                  <a:chExt cx="685800" cy="761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4788000" y="5562720"/>
                    <a:ext cx="609480" cy="7617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788000" y="5790960"/>
                    <a:ext cx="6858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Source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"/>
              <p:cNvSpPr/>
              <p:nvPr/>
            </p:nvSpPr>
            <p:spPr>
              <a:xfrm>
                <a:off x="4572000" y="5334120"/>
                <a:ext cx="685800" cy="304560"/>
              </a:xfrm>
              <a:prstGeom prst="wedgeEllipseCallout">
                <a:avLst>
                  <a:gd name="adj1" fmla="val -39583"/>
                  <a:gd name="adj2" fmla="val 6979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04C1-F971-4C07-8DBF-E18F76137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ultiDimER allows to include spatial data to better represent specific semantic of SD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ethodology is needed for developing SD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ree different approaches for requirements specification and conceptual model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nsideration of users’ knowledge about spatial data and availability of spatial data in source system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ethodology is model independent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velopers should be aware of SDW semantic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870B-E0C1-42E8-87AC-F7B011C1A6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71800" y="10666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048120" cy="25416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2819160" cy="18669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352680" y="4543560"/>
            <a:ext cx="3581640" cy="22381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6172200" y="1143000"/>
            <a:ext cx="2644920" cy="32767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762120" y="1752480"/>
            <a:ext cx="1850760" cy="29718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50840" y="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20574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714A-BCB7-4B74-AE17-00745E46B2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warehouse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530000" y="3816360"/>
            <a:ext cx="420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90720" y="3276720"/>
            <a:ext cx="2438280" cy="3124080"/>
            <a:chOff x="990720" y="3276720"/>
            <a:chExt cx="2438280" cy="3124080"/>
          </a:xfrm>
        </p:grpSpPr>
        <p:sp>
          <p:nvSpPr>
            <p:cNvPr id="113" name=""/>
            <p:cNvSpPr/>
            <p:nvPr/>
          </p:nvSpPr>
          <p:spPr>
            <a:xfrm>
              <a:off x="1371600" y="4267080"/>
              <a:ext cx="1066680" cy="83844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3276720"/>
              <a:ext cx="1066680" cy="83808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5029200"/>
              <a:ext cx="2438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91960" indent="-2919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Operational D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port daily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91120" y="3352680"/>
            <a:ext cx="3352680" cy="3200400"/>
            <a:chOff x="4191120" y="3352680"/>
            <a:chExt cx="3352680" cy="3200400"/>
          </a:xfrm>
        </p:grpSpPr>
        <p:sp>
          <p:nvSpPr>
            <p:cNvPr id="117" name=""/>
            <p:cNvSpPr/>
            <p:nvPr/>
          </p:nvSpPr>
          <p:spPr>
            <a:xfrm>
              <a:off x="4572000" y="3352680"/>
              <a:ext cx="1600200" cy="990720"/>
            </a:xfrm>
            <a:prstGeom prst="can">
              <a:avLst>
                <a:gd name="adj" fmla="val 25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</a:t>
              </a:r>
              <a:r>
                <a:rPr b="0" lang="es-CR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4648320"/>
              <a:ext cx="33526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Data warehou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port analysis and decision making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istorical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egrated from differe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371600" y="2209680"/>
            <a:ext cx="3200400" cy="2438640"/>
            <a:chOff x="1371600" y="2209680"/>
            <a:chExt cx="3200400" cy="2438640"/>
          </a:xfrm>
        </p:grpSpPr>
        <p:sp>
          <p:nvSpPr>
            <p:cNvPr id="120" name="File"/>
            <p:cNvSpPr/>
            <p:nvPr/>
          </p:nvSpPr>
          <p:spPr>
            <a:xfrm>
              <a:off x="1371600" y="2209680"/>
              <a:ext cx="1371600" cy="685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ter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327672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2590920"/>
              <a:ext cx="457200" cy="838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8280" y="3733920"/>
              <a:ext cx="7621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438280" y="4038480"/>
              <a:ext cx="762120" cy="6098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2209680"/>
            <a:ext cx="2120760" cy="3124440"/>
            <a:chOff x="6172200" y="2209680"/>
            <a:chExt cx="2120760" cy="3124440"/>
          </a:xfrm>
        </p:grpSpPr>
        <p:sp>
          <p:nvSpPr>
            <p:cNvPr id="126" name=""/>
            <p:cNvSpPr/>
            <p:nvPr/>
          </p:nvSpPr>
          <p:spPr>
            <a:xfrm>
              <a:off x="6858000" y="2209680"/>
              <a:ext cx="12952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3048120"/>
              <a:ext cx="1143000" cy="72396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286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L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45400" y="3913200"/>
              <a:ext cx="1447560" cy="519120"/>
            </a:xfrm>
            <a:prstGeom prst="flowChartDisplay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is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4572000"/>
              <a:ext cx="1371600" cy="762120"/>
            </a:xfrm>
            <a:prstGeom prst="plus">
              <a:avLst>
                <a:gd name="adj" fmla="val 250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72200" y="2895480"/>
              <a:ext cx="685800" cy="6098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3505320"/>
              <a:ext cx="685800" cy="304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3962520"/>
              <a:ext cx="685800" cy="228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4191120"/>
              <a:ext cx="685800" cy="6094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C485-9F4A-4106-AB59-D5AD516B52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warehouse mode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450080" y="3897360"/>
            <a:ext cx="420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343400"/>
            <a:ext cx="758016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s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ltidimensional </a:t>
            </a:r>
            <a:r>
              <a:rPr b="0" lang="fr-BE" sz="2400" spc="-1" strike="noStrike">
                <a:solidFill>
                  <a:srgbClr val="ff0000"/>
                </a:solidFill>
                <a:latin typeface="Tahoma"/>
              </a:rPr>
              <a:t>vie</a:t>
            </a:r>
            <a:r>
              <a:rPr b="0" lang="es-CR" sz="2400" spc="-1" strike="noStrike">
                <a:solidFill>
                  <a:srgbClr val="ff0000"/>
                </a:solidFill>
                <a:latin typeface="Tahoma"/>
              </a:rPr>
              <a:t>w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Known 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r </a:t>
            </a:r>
            <a:r>
              <a:rPr b="0" lang="es-CR" sz="24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snowflak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llow distinction of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cts, measures, dimensions,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90840" y="3265560"/>
            <a:ext cx="1828800" cy="696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66ffff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082960"/>
            <a:ext cx="6045480" cy="1828800"/>
            <a:chOff x="1295280" y="2082960"/>
            <a:chExt cx="6045480" cy="1828800"/>
          </a:xfrm>
        </p:grpSpPr>
        <p:sp>
          <p:nvSpPr>
            <p:cNvPr id="139" name=""/>
            <p:cNvSpPr/>
            <p:nvPr/>
          </p:nvSpPr>
          <p:spPr>
            <a:xfrm>
              <a:off x="3492360" y="2082960"/>
              <a:ext cx="16002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000000"/>
                  </a:solidFill>
                  <a:latin typeface="Times New Roman"/>
                </a:rPr>
                <a:t>Prod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000000"/>
                  </a:solidFill>
                  <a:latin typeface="Times New Roman"/>
                </a:rPr>
                <a:t>persp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40560" y="3251520"/>
              <a:ext cx="1600200" cy="66024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000000"/>
                  </a:solidFill>
                  <a:latin typeface="Times New Roman"/>
                </a:rPr>
                <a:t>St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000000"/>
                  </a:solidFill>
                  <a:latin typeface="Times New Roman"/>
                </a:rPr>
                <a:t>persp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225960"/>
              <a:ext cx="1600200" cy="685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ffffff"/>
                  </a:solidFill>
                  <a:latin typeface="Times New Roman"/>
                </a:rPr>
                <a:t>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ffffff"/>
                  </a:solidFill>
                  <a:latin typeface="Times New Roman"/>
                </a:rPr>
                <a:t>perspec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2845080"/>
              <a:ext cx="228600" cy="393840"/>
            </a:xfrm>
            <a:prstGeom prst="downArrow">
              <a:avLst>
                <a:gd name="adj1" fmla="val 50000"/>
                <a:gd name="adj2" fmla="val 43071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21040" y="35053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3480120"/>
              <a:ext cx="457200" cy="2286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35ED-8E65-4A58-882B-A8B68C14D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457200"/>
            <a:ext cx="6553080" cy="6095880"/>
          </a:xfrm>
          <a:prstGeom prst="star5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2133720"/>
          <a:ext cx="56386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638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r Schem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-1530000" y="3816360"/>
            <a:ext cx="420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2514600"/>
            <a:ext cx="1143000" cy="1599840"/>
            <a:chOff x="685800" y="2514600"/>
            <a:chExt cx="1143000" cy="1599840"/>
          </a:xfrm>
        </p:grpSpPr>
        <p:sp>
          <p:nvSpPr>
            <p:cNvPr id="151" name=""/>
            <p:cNvSpPr/>
            <p:nvPr/>
          </p:nvSpPr>
          <p:spPr>
            <a:xfrm>
              <a:off x="685800" y="30477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85880" y="2514600"/>
              <a:ext cx="142560" cy="159984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41400 h 1599840"/>
                <a:gd name="textAreaBottom" fmla="*/ 155844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57600" y="2209680"/>
            <a:ext cx="1447920" cy="838440"/>
            <a:chOff x="3657600" y="2209680"/>
            <a:chExt cx="1447920" cy="838440"/>
          </a:xfrm>
        </p:grpSpPr>
        <p:sp>
          <p:nvSpPr>
            <p:cNvPr id="154" name=""/>
            <p:cNvSpPr/>
            <p:nvPr/>
          </p:nvSpPr>
          <p:spPr>
            <a:xfrm>
              <a:off x="3657600" y="220968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Fact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2514600"/>
              <a:ext cx="0" cy="53352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530520" y="4038480"/>
            <a:ext cx="1599840" cy="838440"/>
            <a:chOff x="3530520" y="4038480"/>
            <a:chExt cx="1599840" cy="838440"/>
          </a:xfrm>
        </p:grpSpPr>
        <p:sp>
          <p:nvSpPr>
            <p:cNvPr id="157" name=""/>
            <p:cNvSpPr/>
            <p:nvPr/>
          </p:nvSpPr>
          <p:spPr>
            <a:xfrm>
              <a:off x="3800520" y="453960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eas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30520" y="4038480"/>
              <a:ext cx="1599840" cy="509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370880" y="3580920"/>
            <a:ext cx="4724640" cy="2953080"/>
            <a:chOff x="1370880" y="3580920"/>
            <a:chExt cx="4724640" cy="2953080"/>
          </a:xfrm>
        </p:grpSpPr>
        <p:sp>
          <p:nvSpPr>
            <p:cNvPr id="160" name=""/>
            <p:cNvSpPr/>
            <p:nvPr/>
          </p:nvSpPr>
          <p:spPr>
            <a:xfrm>
              <a:off x="4227120" y="6196680"/>
              <a:ext cx="186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Dim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292920" y="5248440"/>
              <a:ext cx="1120680" cy="97632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214960" y="5504040"/>
              <a:ext cx="880560" cy="72072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370880" y="3580920"/>
              <a:ext cx="2882880" cy="2803680"/>
              <a:chOff x="1370880" y="3580920"/>
              <a:chExt cx="2882880" cy="280368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1371600" y="3580920"/>
                <a:ext cx="0" cy="2803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70880" y="3581280"/>
                <a:ext cx="4935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1600" y="6384600"/>
                <a:ext cx="28821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6705720" y="3504960"/>
            <a:ext cx="2306520" cy="686880"/>
            <a:chOff x="6705720" y="3504960"/>
            <a:chExt cx="2306520" cy="686880"/>
          </a:xfrm>
        </p:grpSpPr>
        <p:sp>
          <p:nvSpPr>
            <p:cNvPr id="168" name=""/>
            <p:cNvSpPr/>
            <p:nvPr/>
          </p:nvSpPr>
          <p:spPr>
            <a:xfrm>
              <a:off x="7569360" y="385452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Hierar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705720" y="3504960"/>
              <a:ext cx="914400" cy="5331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705720" y="3733920"/>
              <a:ext cx="914400" cy="3045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705720" y="4038480"/>
              <a:ext cx="914400" cy="15264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9A5A-C6AC-42FF-BC59-620CA7D6E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inclusion of spatial d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530000" y="3816360"/>
            <a:ext cx="420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95288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ultidimensional model is seldom used for spati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20574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cation included in DWs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sin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am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90720" y="1981080"/>
          <a:ext cx="1441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1441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"/>
          <p:cNvGrpSpPr/>
          <p:nvPr/>
        </p:nvGrpSpPr>
        <p:grpSpPr>
          <a:xfrm>
            <a:off x="2514600" y="2895480"/>
            <a:ext cx="5657760" cy="1927440"/>
            <a:chOff x="2514600" y="2895480"/>
            <a:chExt cx="5657760" cy="192744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5943600" y="2971800"/>
              <a:ext cx="222876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514600" y="2895480"/>
              <a:ext cx="32004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400" spc="-1" strike="noStrike">
                  <a:solidFill>
                    <a:srgbClr val="000066"/>
                  </a:solidFill>
                  <a:latin typeface="Tahoma"/>
                </a:rPr>
                <a:t>Representing data in </a:t>
              </a:r>
              <a:r>
                <a:rPr b="0" lang="es-CR" sz="2400" spc="-1" strike="noStrike">
                  <a:solidFill>
                    <a:srgbClr val="ff0000"/>
                  </a:solidFill>
                  <a:latin typeface="Tahoma"/>
                </a:rPr>
                <a:t>space</a:t>
              </a:r>
              <a:r>
                <a:rPr b="0" lang="es-CR" sz="2400" spc="-1" strike="noStrike">
                  <a:solidFill>
                    <a:srgbClr val="000066"/>
                  </a:solidFill>
                  <a:latin typeface="Tahoma"/>
                </a:rPr>
                <a:t> helps to reveal patterns difficult to discover otherw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059600" y="380880"/>
            <a:ext cx="63648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A3C7-4352-4111-AA5B-F8B082625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193760" y="2108160"/>
          <a:ext cx="626112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2108160"/>
                    <a:ext cx="626112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DimER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971800"/>
            <a:ext cx="1393920" cy="1219320"/>
          </a:xfrm>
          <a:prstGeom prst="rect">
            <a:avLst/>
          </a:prstGeom>
          <a:noFill/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820960" y="2133720"/>
            <a:ext cx="1781280" cy="838080"/>
            <a:chOff x="2820960" y="2133720"/>
            <a:chExt cx="1781280" cy="838080"/>
          </a:xfrm>
        </p:grpSpPr>
        <p:sp>
          <p:nvSpPr>
            <p:cNvPr id="187" name=""/>
            <p:cNvSpPr/>
            <p:nvPr/>
          </p:nvSpPr>
          <p:spPr>
            <a:xfrm>
              <a:off x="2820960" y="2133720"/>
              <a:ext cx="14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im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2400" y="2514600"/>
              <a:ext cx="0" cy="45720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17920" y="2514600"/>
              <a:ext cx="1084320" cy="3049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290840" y="2819520"/>
            <a:ext cx="3252960" cy="1523880"/>
          </a:xfrm>
          <a:prstGeom prst="rect">
            <a:avLst/>
          </a:prstGeom>
          <a:noFill/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4723920"/>
            <a:ext cx="2743200" cy="1768680"/>
            <a:chOff x="1066680" y="4723920"/>
            <a:chExt cx="2743200" cy="176868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4723920"/>
              <a:ext cx="1828800" cy="1756800"/>
              <a:chOff x="1066680" y="4723920"/>
              <a:chExt cx="1828800" cy="1756800"/>
            </a:xfrm>
          </p:grpSpPr>
          <p:sp>
            <p:nvSpPr>
              <p:cNvPr id="193" name=""/>
              <p:cNvSpPr/>
              <p:nvPr/>
            </p:nvSpPr>
            <p:spPr>
              <a:xfrm>
                <a:off x="1066680" y="5900040"/>
                <a:ext cx="1752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Fact relationsh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514600" y="4723920"/>
                <a:ext cx="380880" cy="126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743200" y="5790960"/>
              <a:ext cx="1066680" cy="701640"/>
              <a:chOff x="2743200" y="5790960"/>
              <a:chExt cx="1066680" cy="701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743200" y="5911920"/>
                <a:ext cx="1066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3276720" y="5790960"/>
                <a:ext cx="0" cy="228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105520" y="2133720"/>
            <a:ext cx="1447560" cy="685800"/>
            <a:chOff x="5105520" y="2133720"/>
            <a:chExt cx="1447560" cy="685800"/>
          </a:xfrm>
        </p:grpSpPr>
        <p:sp>
          <p:nvSpPr>
            <p:cNvPr id="199" name=""/>
            <p:cNvSpPr/>
            <p:nvPr/>
          </p:nvSpPr>
          <p:spPr>
            <a:xfrm>
              <a:off x="5105520" y="21337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Hierar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720" y="2438280"/>
              <a:ext cx="0" cy="38124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rot="16200000">
            <a:off x="-1704600" y="4146120"/>
            <a:ext cx="43941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ATIAL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1046520" y="4248360"/>
            <a:ext cx="383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AREHOUS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4114440"/>
            <a:ext cx="1828800" cy="794880"/>
            <a:chOff x="5715000" y="4114440"/>
            <a:chExt cx="1828800" cy="794880"/>
          </a:xfrm>
        </p:grpSpPr>
        <p:sp>
          <p:nvSpPr>
            <p:cNvPr id="204" name=""/>
            <p:cNvSpPr/>
            <p:nvPr/>
          </p:nvSpPr>
          <p:spPr>
            <a:xfrm>
              <a:off x="5715000" y="45720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Analysis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791320" y="4114440"/>
              <a:ext cx="304560" cy="60948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048120" y="2133720"/>
            <a:ext cx="1218960" cy="838080"/>
            <a:chOff x="3048120" y="2133720"/>
            <a:chExt cx="1218960" cy="838080"/>
          </a:xfrm>
        </p:grpSpPr>
        <p:sp>
          <p:nvSpPr>
            <p:cNvPr id="207" name=""/>
            <p:cNvSpPr/>
            <p:nvPr/>
          </p:nvSpPr>
          <p:spPr>
            <a:xfrm>
              <a:off x="3352680" y="2438280"/>
              <a:ext cx="0" cy="5335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21337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791320" y="3657600"/>
            <a:ext cx="1295280" cy="1251720"/>
            <a:chOff x="5791320" y="3657600"/>
            <a:chExt cx="1295280" cy="1251720"/>
          </a:xfrm>
        </p:grpSpPr>
        <p:sp>
          <p:nvSpPr>
            <p:cNvPr id="210" name=""/>
            <p:cNvSpPr/>
            <p:nvPr/>
          </p:nvSpPr>
          <p:spPr>
            <a:xfrm>
              <a:off x="5791320" y="4572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Cardin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019560" y="3657600"/>
              <a:ext cx="75960" cy="9907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5CEE-E13A-44FE-A298-5B631E640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219320" y="2095560"/>
          <a:ext cx="618480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95560"/>
                    <a:ext cx="618480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atially-extended MultDimER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2133720"/>
            <a:ext cx="1981440" cy="1904760"/>
            <a:chOff x="6095880" y="2133720"/>
            <a:chExt cx="1981440" cy="1904760"/>
          </a:xfrm>
        </p:grpSpPr>
        <p:sp>
          <p:nvSpPr>
            <p:cNvPr id="216" name=""/>
            <p:cNvSpPr/>
            <p:nvPr/>
          </p:nvSpPr>
          <p:spPr>
            <a:xfrm>
              <a:off x="6095880" y="213372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pati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2438280"/>
              <a:ext cx="0" cy="45720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14840" y="3123720"/>
              <a:ext cx="685800" cy="3049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010280" y="3505320"/>
              <a:ext cx="1067040" cy="53316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14400" y="4800600"/>
            <a:ext cx="3032280" cy="1632600"/>
            <a:chOff x="914400" y="4800600"/>
            <a:chExt cx="3032280" cy="1632600"/>
          </a:xfrm>
        </p:grpSpPr>
        <p:sp>
          <p:nvSpPr>
            <p:cNvPr id="221" name=""/>
            <p:cNvSpPr/>
            <p:nvPr/>
          </p:nvSpPr>
          <p:spPr>
            <a:xfrm>
              <a:off x="914400" y="578160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Spatial f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act 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09680" y="4800600"/>
              <a:ext cx="762120" cy="9907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76720" y="4876920"/>
              <a:ext cx="75960" cy="129528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609588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patial predic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920" y="2133720"/>
            <a:ext cx="2590560" cy="1295280"/>
            <a:chOff x="3733920" y="2133720"/>
            <a:chExt cx="2590560" cy="1295280"/>
          </a:xfrm>
        </p:grpSpPr>
        <p:sp>
          <p:nvSpPr>
            <p:cNvPr id="226" name=""/>
            <p:cNvSpPr/>
            <p:nvPr/>
          </p:nvSpPr>
          <p:spPr>
            <a:xfrm>
              <a:off x="5486400" y="2438280"/>
              <a:ext cx="520560" cy="99072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33920" y="2133720"/>
              <a:ext cx="25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Topological 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rot="16200000">
            <a:off x="-1704600" y="4146120"/>
            <a:ext cx="43941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ATIAL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-1046520" y="4248360"/>
            <a:ext cx="383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AREHOUS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581280" y="5105160"/>
            <a:ext cx="2057400" cy="1571400"/>
            <a:chOff x="3581280" y="5105160"/>
            <a:chExt cx="2057400" cy="1571400"/>
          </a:xfrm>
        </p:grpSpPr>
        <p:sp>
          <p:nvSpPr>
            <p:cNvPr id="231" name=""/>
            <p:cNvSpPr/>
            <p:nvPr/>
          </p:nvSpPr>
          <p:spPr>
            <a:xfrm>
              <a:off x="3886200" y="609588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patial meas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191120" y="5105160"/>
              <a:ext cx="0" cy="106668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581280" y="5105520"/>
              <a:ext cx="60984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885840" y="5283360"/>
              <a:ext cx="30492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0B76-3802-4656-833B-A67B0EB6A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ditional DB design phases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778320" y="3979800"/>
            <a:ext cx="329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S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-1600560" y="4050720"/>
            <a:ext cx="420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71600" y="3713040"/>
          <a:ext cx="701028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713040"/>
                    <a:ext cx="7010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990720" y="2676600"/>
            <a:ext cx="2133360" cy="3190680"/>
            <a:chOff x="990720" y="2676600"/>
            <a:chExt cx="2133360" cy="3190680"/>
          </a:xfrm>
        </p:grpSpPr>
        <p:grpSp>
          <p:nvGrpSpPr>
            <p:cNvPr id="241" name=""/>
            <p:cNvGrpSpPr/>
            <p:nvPr/>
          </p:nvGrpSpPr>
          <p:grpSpPr>
            <a:xfrm>
              <a:off x="1905120" y="2676600"/>
              <a:ext cx="368280" cy="676080"/>
              <a:chOff x="1905120" y="2676600"/>
              <a:chExt cx="368280" cy="676080"/>
            </a:xfrm>
          </p:grpSpPr>
          <p:sp>
            <p:nvSpPr>
              <p:cNvPr id="242" name=""/>
              <p:cNvSpPr/>
              <p:nvPr/>
            </p:nvSpPr>
            <p:spPr>
              <a:xfrm>
                <a:off x="1978200" y="2676600"/>
                <a:ext cx="228600" cy="2286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95560" y="2905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30290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947600" y="3200400"/>
                <a:ext cx="304560" cy="152280"/>
                <a:chOff x="1947600" y="3200400"/>
                <a:chExt cx="304560" cy="152280"/>
              </a:xfrm>
            </p:grpSpPr>
            <p:sp>
              <p:nvSpPr>
                <p:cNvPr id="246" name=""/>
                <p:cNvSpPr/>
                <p:nvPr/>
              </p:nvSpPr>
              <p:spPr>
                <a:xfrm flipH="1">
                  <a:off x="1947600" y="32004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00240" y="320040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990720" y="5029200"/>
              <a:ext cx="2133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Users express their needs for having a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4572000"/>
              <a:ext cx="152640" cy="457200"/>
            </a:xfrm>
            <a:prstGeom prst="upArrow">
              <a:avLst>
                <a:gd name="adj1" fmla="val 50000"/>
                <a:gd name="adj2" fmla="val 7488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276720" y="2387520"/>
            <a:ext cx="1752480" cy="3479760"/>
            <a:chOff x="3276720" y="2387520"/>
            <a:chExt cx="1752480" cy="3479760"/>
          </a:xfrm>
        </p:grpSpPr>
        <p:sp>
          <p:nvSpPr>
            <p:cNvPr id="251" name=""/>
            <p:cNvSpPr/>
            <p:nvPr/>
          </p:nvSpPr>
          <p:spPr>
            <a:xfrm>
              <a:off x="3886200" y="4572000"/>
              <a:ext cx="152280" cy="4572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6720" y="5029200"/>
              <a:ext cx="1752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Conceptual schema is elabo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3352680" y="2387520"/>
            <a:ext cx="1143000" cy="111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2387520"/>
                      <a:ext cx="1143000" cy="111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5" name=""/>
          <p:cNvGrpSpPr/>
          <p:nvPr/>
        </p:nvGrpSpPr>
        <p:grpSpPr>
          <a:xfrm>
            <a:off x="4876920" y="2486160"/>
            <a:ext cx="1981080" cy="3381120"/>
            <a:chOff x="4876920" y="2486160"/>
            <a:chExt cx="1981080" cy="3381120"/>
          </a:xfrm>
        </p:grpSpPr>
        <p:sp>
          <p:nvSpPr>
            <p:cNvPr id="256" name=""/>
            <p:cNvSpPr/>
            <p:nvPr/>
          </p:nvSpPr>
          <p:spPr>
            <a:xfrm>
              <a:off x="5715000" y="4572000"/>
              <a:ext cx="152280" cy="4572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29200" y="5029200"/>
              <a:ext cx="1828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Mapping into logical schema is condu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76920" y="248616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Tahoma"/>
                </a:rPr>
                <a:t>Client(Client key, Client id, First name, Last name, Birth date, Salary rang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705720" y="2106720"/>
            <a:ext cx="2438280" cy="3760560"/>
            <a:chOff x="6705720" y="2106720"/>
            <a:chExt cx="2438280" cy="3760560"/>
          </a:xfrm>
        </p:grpSpPr>
        <p:sp>
          <p:nvSpPr>
            <p:cNvPr id="260" name=""/>
            <p:cNvSpPr/>
            <p:nvPr/>
          </p:nvSpPr>
          <p:spPr>
            <a:xfrm>
              <a:off x="7543800" y="4572000"/>
              <a:ext cx="152280" cy="4572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029200"/>
              <a:ext cx="1828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Physical schema is implem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2106720"/>
              <a:ext cx="243828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Create table Cli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ClientKey number(6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ClientId number(4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FirstNname varchar2(25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LastNname varchar2(25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BirthDate dat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GB" sz="1400" spc="-1" strike="noStrike">
                  <a:solidFill>
                    <a:srgbClr val="ff0000"/>
                  </a:solidFill>
                  <a:latin typeface="Tahoma"/>
                </a:rPr>
                <a:t>SalaryRrange 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A9C7-4B70-4938-A35C-1EAEEE4665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ka</cp:lastModifiedBy>
  <dcterms:modified xsi:type="dcterms:W3CDTF">2006-10-23T17:08:03Z</dcterms:modified>
  <cp:revision>552</cp:revision>
  <dc:subject/>
  <dc:title>PowerPoint Presentation</dc:title>
</cp:coreProperties>
</file>