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D6A-8165-4F72-8152-81458EFA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trade winds is a endurant (a qu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3CA-4D03-4CF7-B854-1EB3EF34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FBE-0794-4DC1-9ECC-728F3CB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453-81A6-4180-93B6-F7475AC4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0CD-B681-4892-BEF1-54D3938A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00A-B247-4B0E-93DB-3610BE7B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508-E69B-4905-837E-0D79B06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642-06FE-4B9F-946E-0070E38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239-8F21-4B74-8839-EA1BA18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E14-E630-4E4C-8CE6-4C3DB619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1E0-6782-4403-AD77-D8E4F04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8EF-27ED-4B92-9CC8-BC7972A5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CE5-8FD3-479B-B019-E138CE6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FC7-3975-4ED8-9123-2CFB2BD07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assification of spatio-temporal entities based on their location in space-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Bittner &amp; Maureen Donne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State Center of Excellence in Bioinformatics and Life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en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080" y="57913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ld body of water is a (fiat) end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038120" y="4876920"/>
            <a:ext cx="685800" cy="914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en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12400" y="57913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winds are endu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24280" y="3200040"/>
            <a:ext cx="990720" cy="259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per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25440" y="5791320"/>
            <a:ext cx="59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vement of the air that constitutes the trade w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erdurant (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724280" y="2819160"/>
            <a:ext cx="1219320" cy="2971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per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25080" y="5791320"/>
            <a:ext cx="627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vement of the water molecules which constitut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d body of water is a perdurant (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4876920"/>
            <a:ext cx="609840" cy="914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3800" y="5791320"/>
            <a:ext cx="60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eak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trade winds is a perdurant (pro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24280" y="3200040"/>
            <a:ext cx="990720" cy="2590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istinct 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52480" y="2133720"/>
          <a:ext cx="5791320" cy="37335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972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ul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tok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0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cla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insta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0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 flipV="1">
            <a:off x="4648320" y="1752120"/>
            <a:ext cx="1440" cy="388620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istinct 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52480" y="2133720"/>
          <a:ext cx="5791320" cy="37335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972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ul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Human b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Tom Bit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0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C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Tom’s cat Mis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0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Red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V="1">
            <a:off x="4648320" y="1752120"/>
            <a:ext cx="1440" cy="388620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952880"/>
            <a:ext cx="609840" cy="533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5029200"/>
            <a:ext cx="9144000" cy="1566720"/>
            <a:chOff x="0" y="5029200"/>
            <a:chExt cx="9144000" cy="1566720"/>
          </a:xfrm>
        </p:grpSpPr>
        <p:grpSp>
          <p:nvGrpSpPr>
            <p:cNvPr id="164" name=""/>
            <p:cNvGrpSpPr/>
            <p:nvPr/>
          </p:nvGrpSpPr>
          <p:grpSpPr>
            <a:xfrm>
              <a:off x="3124080" y="5375160"/>
              <a:ext cx="1742400" cy="1189080"/>
              <a:chOff x="3124080" y="5375160"/>
              <a:chExt cx="1742400" cy="118908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5375160"/>
                <a:ext cx="90000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4021920" y="5767200"/>
                <a:ext cx="844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a28d6"/>
                    </a:solidFill>
                    <a:latin typeface="Times New Roman"/>
                    <a:ea typeface="Times New Roman"/>
                  </a:rPr>
                  <a:t>Mish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5029200"/>
              <a:ext cx="9144000" cy="1006200"/>
              <a:chOff x="0" y="5029200"/>
              <a:chExt cx="9144000" cy="100620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5029200"/>
                <a:ext cx="9144000" cy="14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160" y="5486400"/>
                <a:ext cx="201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867360" y="5346720"/>
              <a:ext cx="1744560" cy="1249200"/>
              <a:chOff x="6867360" y="5346720"/>
              <a:chExt cx="1744560" cy="1249200"/>
            </a:xfrm>
          </p:grpSpPr>
          <p:pic>
            <p:nvPicPr>
              <p:cNvPr id="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7360" y="5346720"/>
                <a:ext cx="92880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7913520" y="5940360"/>
                <a:ext cx="6984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 algn="ctr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28d6"/>
                    </a:solidFill>
                    <a:latin typeface="Arial"/>
                    <a:ea typeface="Arial"/>
                  </a:rPr>
                  <a:t>T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2514600" y="3744720"/>
            <a:ext cx="5384160" cy="1675800"/>
            <a:chOff x="2514600" y="3744720"/>
            <a:chExt cx="5384160" cy="1675800"/>
          </a:xfrm>
        </p:grpSpPr>
        <p:grpSp>
          <p:nvGrpSpPr>
            <p:cNvPr id="174" name=""/>
            <p:cNvGrpSpPr/>
            <p:nvPr/>
          </p:nvGrpSpPr>
          <p:grpSpPr>
            <a:xfrm>
              <a:off x="2514600" y="3744720"/>
              <a:ext cx="2336760" cy="1675800"/>
              <a:chOff x="2514600" y="3744720"/>
              <a:chExt cx="2336760" cy="1675800"/>
            </a:xfrm>
          </p:grpSpPr>
          <p:sp>
            <p:nvSpPr>
              <p:cNvPr id="175" name=""/>
              <p:cNvSpPr/>
              <p:nvPr/>
            </p:nvSpPr>
            <p:spPr>
              <a:xfrm flipH="1" flipV="1">
                <a:off x="2514600" y="3744720"/>
                <a:ext cx="990720" cy="1675800"/>
              </a:xfrm>
              <a:prstGeom prst="line">
                <a:avLst/>
              </a:prstGeom>
              <a:ln w="25560">
                <a:solidFill>
                  <a:srgbClr val="3a28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00400" y="4574880"/>
                <a:ext cx="16509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a28d6"/>
                    </a:solidFill>
                    <a:latin typeface="Times New Roman"/>
                    <a:ea typeface="Times New Roman"/>
                  </a:rPr>
                  <a:t>Instance-o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432480" y="4520160"/>
              <a:ext cx="1466280" cy="897120"/>
              <a:chOff x="6432480" y="4520160"/>
              <a:chExt cx="1466280" cy="897120"/>
            </a:xfrm>
          </p:grpSpPr>
          <p:sp>
            <p:nvSpPr>
              <p:cNvPr id="178" name=""/>
              <p:cNvSpPr/>
              <p:nvPr/>
            </p:nvSpPr>
            <p:spPr>
              <a:xfrm>
                <a:off x="6432480" y="4520160"/>
                <a:ext cx="685800" cy="897120"/>
              </a:xfrm>
              <a:prstGeom prst="line">
                <a:avLst/>
              </a:prstGeom>
              <a:ln w="25560">
                <a:solidFill>
                  <a:srgbClr val="3a28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8440" y="4610520"/>
                <a:ext cx="121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28d6"/>
                    </a:solidFill>
                    <a:latin typeface="Arial"/>
                    <a:ea typeface="Arial"/>
                  </a:rPr>
                  <a:t>Instance-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4136760" y="5243400"/>
            <a:ext cx="2609640" cy="1176480"/>
            <a:chOff x="4136760" y="5243400"/>
            <a:chExt cx="2609640" cy="1176480"/>
          </a:xfrm>
        </p:grpSpPr>
        <p:grpSp>
          <p:nvGrpSpPr>
            <p:cNvPr id="181" name=""/>
            <p:cNvGrpSpPr/>
            <p:nvPr/>
          </p:nvGrpSpPr>
          <p:grpSpPr>
            <a:xfrm>
              <a:off x="4136760" y="5243400"/>
              <a:ext cx="2603160" cy="622440"/>
              <a:chOff x="4136760" y="5243400"/>
              <a:chExt cx="2603160" cy="62244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4136760" y="5592600"/>
                <a:ext cx="2603160" cy="18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00240" y="5243400"/>
                <a:ext cx="826920" cy="6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ff"/>
                    </a:solidFill>
                    <a:latin typeface="Arial"/>
                    <a:ea typeface="Arial"/>
                  </a:rPr>
                  <a:t>hasP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219200" y="6068880"/>
              <a:ext cx="2527200" cy="351000"/>
              <a:chOff x="4219200" y="6068880"/>
              <a:chExt cx="2527200" cy="35100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4219200" y="6418080"/>
                <a:ext cx="2527200" cy="18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62520" y="6068880"/>
                <a:ext cx="707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ffff"/>
                    </a:solidFill>
                    <a:latin typeface="Arial"/>
                    <a:ea typeface="Arial"/>
                  </a:rPr>
                  <a:t>isPetO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91440" y="152280"/>
            <a:ext cx="8442720" cy="4554720"/>
            <a:chOff x="91440" y="152280"/>
            <a:chExt cx="8442720" cy="4554720"/>
          </a:xfrm>
        </p:grpSpPr>
        <p:grpSp>
          <p:nvGrpSpPr>
            <p:cNvPr id="188" name=""/>
            <p:cNvGrpSpPr/>
            <p:nvPr/>
          </p:nvGrpSpPr>
          <p:grpSpPr>
            <a:xfrm>
              <a:off x="686160" y="152280"/>
              <a:ext cx="7848000" cy="4554720"/>
              <a:chOff x="686160" y="152280"/>
              <a:chExt cx="7848000" cy="45547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6248520" y="152280"/>
                <a:ext cx="1600200" cy="901800"/>
                <a:chOff x="6248520" y="152280"/>
                <a:chExt cx="1600200" cy="90180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6858000" y="152280"/>
                  <a:ext cx="380880" cy="533520"/>
                  <a:chOff x="6858000" y="152280"/>
                  <a:chExt cx="380880" cy="5335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6858000" y="152280"/>
                    <a:ext cx="380880" cy="53352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858000" y="152280"/>
                    <a:ext cx="380880" cy="1332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858000" y="218880"/>
                    <a:ext cx="38088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6248520" y="609480"/>
                  <a:ext cx="1600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40680" tIns="0" bIns="0" anchor="t">
                  <a:no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bsta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86160" y="3317760"/>
                <a:ext cx="1599840" cy="1389240"/>
                <a:chOff x="686160" y="3317760"/>
                <a:chExt cx="1599840" cy="1389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686160" y="3390480"/>
                  <a:ext cx="1599840" cy="1316520"/>
                  <a:chOff x="686160" y="3390480"/>
                  <a:chExt cx="1599840" cy="131652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1066680" y="3885480"/>
                    <a:ext cx="380880" cy="533160"/>
                    <a:chOff x="1066680" y="3885480"/>
                    <a:chExt cx="380880" cy="5331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1066680" y="3885480"/>
                      <a:ext cx="380880" cy="533160"/>
                    </a:xfrm>
                    <a:prstGeom prst="pi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66680" y="3885480"/>
                      <a:ext cx="380880" cy="132840"/>
                    </a:xfrm>
                    <a:prstGeom prst="pie">
                      <a:avLst/>
                    </a:prstGeom>
                    <a:solidFill>
                      <a:srgbClr val="00daa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1066680" y="3951720"/>
                      <a:ext cx="380880" cy="66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 flipH="1" rot="10800000">
                    <a:off x="1447920" y="3390480"/>
                    <a:ext cx="838080" cy="761760"/>
                  </a:xfrm>
                  <a:prstGeom prst="pi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86160" y="4340880"/>
                    <a:ext cx="1215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40680" tIns="0" bIns="0" anchor="t">
                    <a:spAutoFit/>
                  </a:bodyPr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iame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355040" y="331776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209680" y="2590560"/>
                <a:ext cx="1218600" cy="1359000"/>
                <a:chOff x="2209680" y="2590560"/>
                <a:chExt cx="1218600" cy="13590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2209680" y="2628360"/>
                  <a:ext cx="1218600" cy="1321200"/>
                  <a:chOff x="2209680" y="2628360"/>
                  <a:chExt cx="1218600" cy="13212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2286000" y="3047760"/>
                    <a:ext cx="380880" cy="533520"/>
                    <a:chOff x="2286000" y="3047760"/>
                    <a:chExt cx="380880" cy="53352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2286000" y="3047760"/>
                      <a:ext cx="380880" cy="533520"/>
                    </a:xfrm>
                    <a:prstGeom prst="pi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2286000" y="3047760"/>
                      <a:ext cx="380880" cy="133200"/>
                    </a:xfrm>
                    <a:prstGeom prst="pie">
                      <a:avLst/>
                    </a:prstGeom>
                    <a:solidFill>
                      <a:srgbClr val="00daa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286000" y="3114360"/>
                      <a:ext cx="380880" cy="66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10800000">
                    <a:off x="2665800" y="2628360"/>
                    <a:ext cx="762120" cy="685800"/>
                  </a:xfrm>
                  <a:prstGeom prst="pi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09680" y="3504960"/>
                    <a:ext cx="762120" cy="44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40680" tIns="0" bIns="0" anchor="t">
                    <a:noAutofit/>
                  </a:bodyPr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a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2513880" y="259056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047760" y="1904760"/>
                <a:ext cx="1447560" cy="1280520"/>
                <a:chOff x="3047760" y="1904760"/>
                <a:chExt cx="1447560" cy="1280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047760" y="2819160"/>
                  <a:ext cx="1249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mm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3428640" y="2361960"/>
                  <a:ext cx="380880" cy="533520"/>
                  <a:chOff x="3428640" y="2361960"/>
                  <a:chExt cx="380880" cy="5335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428640" y="2361960"/>
                    <a:ext cx="380880" cy="53352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28640" y="2361960"/>
                    <a:ext cx="380880" cy="1332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28640" y="2428560"/>
                    <a:ext cx="38088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" name=""/>
                <p:cNvSpPr/>
                <p:nvPr/>
              </p:nvSpPr>
              <p:spPr>
                <a:xfrm flipH="1" rot="10800000">
                  <a:off x="3809880" y="1958400"/>
                  <a:ext cx="685440" cy="6318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580560" y="190476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247640" y="1257120"/>
                <a:ext cx="1238040" cy="1242360"/>
                <a:chOff x="4247640" y="1257120"/>
                <a:chExt cx="1238040" cy="124236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495680" y="1715760"/>
                  <a:ext cx="380880" cy="488880"/>
                  <a:chOff x="4495680" y="1715760"/>
                  <a:chExt cx="380880" cy="488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495680" y="1715760"/>
                    <a:ext cx="380880" cy="48888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495680" y="1715760"/>
                    <a:ext cx="380880" cy="1224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495680" y="1776240"/>
                    <a:ext cx="380880" cy="6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 flipH="1" rot="10800000">
                  <a:off x="4875840" y="1373040"/>
                  <a:ext cx="609480" cy="5875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247640" y="2133360"/>
                  <a:ext cx="9770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nim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45800" y="125712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06240" y="533160"/>
                <a:ext cx="1751040" cy="1316880"/>
                <a:chOff x="5106240" y="533160"/>
                <a:chExt cx="1751040" cy="131688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5106240" y="533160"/>
                  <a:ext cx="1751040" cy="1316880"/>
                  <a:chOff x="5106240" y="533160"/>
                  <a:chExt cx="1751040" cy="13168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0800000">
                    <a:off x="5866560" y="533160"/>
                    <a:ext cx="990360" cy="838080"/>
                  </a:xfrm>
                  <a:prstGeom prst="pi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106240" y="1483920"/>
                    <a:ext cx="13338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40680" tIns="0" bIns="0" anchor="t">
                    <a:spAutoFit/>
                  </a:bodyPr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organis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486400" y="1104840"/>
                    <a:ext cx="380880" cy="533160"/>
                    <a:chOff x="5486400" y="1104840"/>
                    <a:chExt cx="380880" cy="53316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486400" y="1104840"/>
                      <a:ext cx="380880" cy="533160"/>
                    </a:xfrm>
                    <a:prstGeom prst="pi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486400" y="1104840"/>
                      <a:ext cx="380880" cy="132840"/>
                    </a:xfrm>
                    <a:prstGeom prst="pie">
                      <a:avLst/>
                    </a:prstGeom>
                    <a:solidFill>
                      <a:srgbClr val="00daa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5486400" y="1171080"/>
                      <a:ext cx="380880" cy="66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7" name=""/>
                <p:cNvSpPr/>
                <p:nvPr/>
              </p:nvSpPr>
              <p:spPr>
                <a:xfrm>
                  <a:off x="5682600" y="64584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741840" y="2739960"/>
                <a:ext cx="4699080" cy="1717560"/>
                <a:chOff x="3741840" y="2739960"/>
                <a:chExt cx="4699080" cy="17175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6086520" y="3924360"/>
                  <a:ext cx="380880" cy="533160"/>
                  <a:chOff x="6086520" y="3924360"/>
                  <a:chExt cx="380880" cy="5331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6086520" y="392436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6086520" y="392436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6086520" y="399060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" name=""/>
                <p:cNvSpPr/>
                <p:nvPr/>
              </p:nvSpPr>
              <p:spPr>
                <a:xfrm>
                  <a:off x="3741840" y="2739960"/>
                  <a:ext cx="2344680" cy="14508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49480" y="3941640"/>
                  <a:ext cx="1891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man be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52320" y="322560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781680" y="419040"/>
                <a:ext cx="1752480" cy="2856960"/>
                <a:chOff x="6781680" y="419040"/>
                <a:chExt cx="1752480" cy="28569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238880" y="419040"/>
                  <a:ext cx="266760" cy="12553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7315200" y="1676160"/>
                  <a:ext cx="380880" cy="532800"/>
                  <a:chOff x="7315200" y="1676160"/>
                  <a:chExt cx="380880" cy="5328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7315200" y="1676160"/>
                    <a:ext cx="380880" cy="53280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315200" y="167616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315200" y="174240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8153280" y="2742840"/>
                  <a:ext cx="380880" cy="533160"/>
                  <a:chOff x="8153280" y="2742840"/>
                  <a:chExt cx="380880" cy="5331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8153280" y="274284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153280" y="274284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153280" y="280908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7696080" y="1942560"/>
                  <a:ext cx="647640" cy="7999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6781680" y="2742840"/>
                  <a:ext cx="380880" cy="533160"/>
                  <a:chOff x="6781680" y="2742840"/>
                  <a:chExt cx="380880" cy="5331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781680" y="274284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781680" y="274284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781680" y="280908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H="1">
                  <a:off x="6971400" y="1942560"/>
                  <a:ext cx="343080" cy="7999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91440" y="380880"/>
              <a:ext cx="30985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versals,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es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5029200"/>
            <a:ext cx="9144000" cy="1265400"/>
            <a:chOff x="0" y="5029200"/>
            <a:chExt cx="9144000" cy="1265400"/>
          </a:xfrm>
        </p:grpSpPr>
        <p:sp>
          <p:nvSpPr>
            <p:cNvPr id="264" name=""/>
            <p:cNvSpPr/>
            <p:nvPr/>
          </p:nvSpPr>
          <p:spPr>
            <a:xfrm>
              <a:off x="3047040" y="5562720"/>
              <a:ext cx="1065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Misha’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5029200"/>
              <a:ext cx="9144000" cy="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160" y="5486400"/>
              <a:ext cx="2013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an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81680" y="5562720"/>
              <a:ext cx="9144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a28d6"/>
                  </a:solidFill>
                  <a:latin typeface="Arial"/>
                  <a:ea typeface="Arial"/>
                </a:rPr>
                <a:t>Tom’s</a:t>
              </a:r>
              <a:br>
                <a:rPr sz="1800"/>
              </a:br>
              <a:r>
                <a:rPr b="0" lang="en-US" sz="1800" spc="-1" strike="noStrike">
                  <a:solidFill>
                    <a:srgbClr val="3a28d6"/>
                  </a:solidFill>
                  <a:latin typeface="Arial"/>
                  <a:ea typeface="Arial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514600" y="3744720"/>
            <a:ext cx="5384160" cy="1675800"/>
            <a:chOff x="2514600" y="3744720"/>
            <a:chExt cx="5384160" cy="1675800"/>
          </a:xfrm>
        </p:grpSpPr>
        <p:grpSp>
          <p:nvGrpSpPr>
            <p:cNvPr id="269" name=""/>
            <p:cNvGrpSpPr/>
            <p:nvPr/>
          </p:nvGrpSpPr>
          <p:grpSpPr>
            <a:xfrm>
              <a:off x="2514600" y="3744720"/>
              <a:ext cx="2336760" cy="1675800"/>
              <a:chOff x="2514600" y="3744720"/>
              <a:chExt cx="2336760" cy="1675800"/>
            </a:xfrm>
          </p:grpSpPr>
          <p:sp>
            <p:nvSpPr>
              <p:cNvPr id="270" name=""/>
              <p:cNvSpPr/>
              <p:nvPr/>
            </p:nvSpPr>
            <p:spPr>
              <a:xfrm flipH="1" flipV="1">
                <a:off x="2514600" y="3744720"/>
                <a:ext cx="990720" cy="1675800"/>
              </a:xfrm>
              <a:prstGeom prst="line">
                <a:avLst/>
              </a:prstGeom>
              <a:ln w="25560">
                <a:solidFill>
                  <a:srgbClr val="3a28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0400" y="4574880"/>
                <a:ext cx="16509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Autofit/>
              </a:bodyPr>
              <a:p>
                <a:pPr marL="39600"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a28d6"/>
                    </a:solidFill>
                    <a:latin typeface="Times New Roman"/>
                    <a:ea typeface="Times New Roman"/>
                  </a:rPr>
                  <a:t>Instance-o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432480" y="4520160"/>
              <a:ext cx="1466280" cy="897120"/>
              <a:chOff x="6432480" y="4520160"/>
              <a:chExt cx="1466280" cy="897120"/>
            </a:xfrm>
          </p:grpSpPr>
          <p:sp>
            <p:nvSpPr>
              <p:cNvPr id="273" name=""/>
              <p:cNvSpPr/>
              <p:nvPr/>
            </p:nvSpPr>
            <p:spPr>
              <a:xfrm>
                <a:off x="6432480" y="4520160"/>
                <a:ext cx="685800" cy="897120"/>
              </a:xfrm>
              <a:prstGeom prst="line">
                <a:avLst/>
              </a:prstGeom>
              <a:ln w="25560">
                <a:solidFill>
                  <a:srgbClr val="3a28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88440" y="4610520"/>
                <a:ext cx="121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a28d6"/>
                    </a:solidFill>
                    <a:latin typeface="Arial"/>
                    <a:ea typeface="Arial"/>
                  </a:rPr>
                  <a:t>Instance-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1440" y="152280"/>
            <a:ext cx="8442720" cy="4305240"/>
            <a:chOff x="91440" y="152280"/>
            <a:chExt cx="8442720" cy="4305240"/>
          </a:xfrm>
        </p:grpSpPr>
        <p:grpSp>
          <p:nvGrpSpPr>
            <p:cNvPr id="276" name=""/>
            <p:cNvGrpSpPr/>
            <p:nvPr/>
          </p:nvGrpSpPr>
          <p:grpSpPr>
            <a:xfrm>
              <a:off x="2209680" y="152280"/>
              <a:ext cx="6324480" cy="4305240"/>
              <a:chOff x="2209680" y="152280"/>
              <a:chExt cx="6324480" cy="430524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6248160" y="152280"/>
                <a:ext cx="1600200" cy="901800"/>
                <a:chOff x="6248160" y="152280"/>
                <a:chExt cx="1600200" cy="9018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6857640" y="152280"/>
                  <a:ext cx="380880" cy="533520"/>
                  <a:chOff x="6857640" y="152280"/>
                  <a:chExt cx="380880" cy="533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6857640" y="152280"/>
                    <a:ext cx="380880" cy="53352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857640" y="152280"/>
                    <a:ext cx="380880" cy="1332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57640" y="218880"/>
                    <a:ext cx="38088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6248160" y="609480"/>
                  <a:ext cx="1600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40680" tIns="0" bIns="0" anchor="t">
                  <a:no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cess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209680" y="2590560"/>
                <a:ext cx="1218600" cy="1714680"/>
                <a:chOff x="2209680" y="2590560"/>
                <a:chExt cx="1218600" cy="171468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2209680" y="2628360"/>
                  <a:ext cx="1218600" cy="1676880"/>
                  <a:chOff x="2209680" y="2628360"/>
                  <a:chExt cx="1218600" cy="1676880"/>
                </a:xfrm>
              </p:grpSpPr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2286000" y="3047760"/>
                    <a:ext cx="380880" cy="533520"/>
                    <a:chOff x="2286000" y="3047760"/>
                    <a:chExt cx="380880" cy="53352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2286000" y="3047760"/>
                      <a:ext cx="380880" cy="533520"/>
                    </a:xfrm>
                    <a:prstGeom prst="pi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2286000" y="3047760"/>
                      <a:ext cx="380880" cy="133200"/>
                    </a:xfrm>
                    <a:prstGeom prst="pie">
                      <a:avLst/>
                    </a:prstGeom>
                    <a:solidFill>
                      <a:srgbClr val="00daa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2286000" y="3114360"/>
                      <a:ext cx="380880" cy="66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 flipH="1" rot="10800000">
                    <a:off x="2665800" y="2628360"/>
                    <a:ext cx="762120" cy="685800"/>
                  </a:xfrm>
                  <a:prstGeom prst="pi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209680" y="3504960"/>
                    <a:ext cx="762120" cy="800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40680" tIns="0" bIns="0" anchor="t">
                    <a:noAutofit/>
                  </a:bodyPr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a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if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2513880" y="259056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047400" y="1904760"/>
                <a:ext cx="1447560" cy="1646280"/>
                <a:chOff x="3047400" y="1904760"/>
                <a:chExt cx="1447560" cy="16462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047400" y="2819160"/>
                  <a:ext cx="12499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mm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if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3428640" y="2361960"/>
                  <a:ext cx="380880" cy="533520"/>
                  <a:chOff x="3428640" y="2361960"/>
                  <a:chExt cx="380880" cy="5335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3428640" y="2361960"/>
                    <a:ext cx="380880" cy="53352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28640" y="2361960"/>
                    <a:ext cx="380880" cy="1332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28640" y="2428560"/>
                    <a:ext cx="380880" cy="66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 flipH="1" rot="10800000">
                  <a:off x="3808800" y="1958400"/>
                  <a:ext cx="685800" cy="6318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580560" y="190476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247640" y="1257120"/>
                <a:ext cx="1399320" cy="1242360"/>
                <a:chOff x="4247640" y="1257120"/>
                <a:chExt cx="1399320" cy="124236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4495320" y="1715760"/>
                  <a:ext cx="380880" cy="488880"/>
                  <a:chOff x="4495320" y="1715760"/>
                  <a:chExt cx="380880" cy="4888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4495320" y="1715760"/>
                    <a:ext cx="380880" cy="48888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495320" y="1715760"/>
                    <a:ext cx="380880" cy="12240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495320" y="1776240"/>
                    <a:ext cx="380880" cy="619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 flipH="1" rot="10800000">
                  <a:off x="4876560" y="1373040"/>
                  <a:ext cx="609120" cy="5875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247640" y="2133360"/>
                  <a:ext cx="13993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nimallif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45440" y="125712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105160" y="533160"/>
                <a:ext cx="1751760" cy="1316880"/>
                <a:chOff x="5105160" y="533160"/>
                <a:chExt cx="1751760" cy="13168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105160" y="533160"/>
                  <a:ext cx="1751760" cy="1316880"/>
                  <a:chOff x="5105160" y="533160"/>
                  <a:chExt cx="1751760" cy="131688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 rot="10800000">
                    <a:off x="5866200" y="533160"/>
                    <a:ext cx="990360" cy="838080"/>
                  </a:xfrm>
                  <a:prstGeom prst="pi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105160" y="1483920"/>
                    <a:ext cx="62208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40680" tIns="0" bIns="0" anchor="t">
                    <a:spAutoFit/>
                  </a:bodyPr>
                  <a:p>
                    <a:pPr marL="39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if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486040" y="1104840"/>
                    <a:ext cx="380880" cy="533160"/>
                    <a:chOff x="5486040" y="1104840"/>
                    <a:chExt cx="380880" cy="533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5486040" y="1104840"/>
                      <a:ext cx="380880" cy="533160"/>
                    </a:xfrm>
                    <a:prstGeom prst="pi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5486040" y="1104840"/>
                      <a:ext cx="380880" cy="132840"/>
                    </a:xfrm>
                    <a:prstGeom prst="pie">
                      <a:avLst/>
                    </a:prstGeom>
                    <a:solidFill>
                      <a:srgbClr val="00daa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5486040" y="1171080"/>
                      <a:ext cx="380880" cy="66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6" name=""/>
                <p:cNvSpPr/>
                <p:nvPr/>
              </p:nvSpPr>
              <p:spPr>
                <a:xfrm>
                  <a:off x="5682240" y="64584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741480" y="2739960"/>
                <a:ext cx="4343760" cy="1717560"/>
                <a:chOff x="3741480" y="2739960"/>
                <a:chExt cx="4343760" cy="17175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6086160" y="3924360"/>
                  <a:ext cx="380880" cy="533160"/>
                  <a:chOff x="6086160" y="3924360"/>
                  <a:chExt cx="380880" cy="5331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6086160" y="392436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086160" y="392436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086160" y="399060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3741480" y="2739960"/>
                  <a:ext cx="2344680" cy="14508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48760" y="3941640"/>
                  <a:ext cx="15364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man lif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151960" y="3225600"/>
                  <a:ext cx="539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40680" tIns="0" bIns="0" anchor="t">
                  <a:spAutoFit/>
                </a:bodyPr>
                <a:p>
                  <a:pPr marL="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s-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781680" y="419040"/>
                <a:ext cx="1752480" cy="2856960"/>
                <a:chOff x="6781680" y="419040"/>
                <a:chExt cx="1752480" cy="28569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238880" y="419040"/>
                  <a:ext cx="266760" cy="12553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7315200" y="1676160"/>
                  <a:ext cx="380880" cy="532800"/>
                  <a:chOff x="7315200" y="1676160"/>
                  <a:chExt cx="380880" cy="5328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315200" y="1676160"/>
                    <a:ext cx="380880" cy="53280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15200" y="167616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315200" y="174240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153280" y="2742840"/>
                  <a:ext cx="380880" cy="533160"/>
                  <a:chOff x="8153280" y="2742840"/>
                  <a:chExt cx="380880" cy="5331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153280" y="274284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153280" y="274284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8153280" y="280908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7696080" y="1942560"/>
                  <a:ext cx="647640" cy="7999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6781680" y="2742840"/>
                  <a:ext cx="380880" cy="533160"/>
                  <a:chOff x="6781680" y="2742840"/>
                  <a:chExt cx="380880" cy="5331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781680" y="2742840"/>
                    <a:ext cx="380880" cy="533160"/>
                  </a:xfrm>
                  <a:prstGeom prst="pi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781680" y="2742840"/>
                    <a:ext cx="380880" cy="132840"/>
                  </a:xfrm>
                  <a:prstGeom prst="pie">
                    <a:avLst/>
                  </a:prstGeom>
                  <a:solidFill>
                    <a:srgbClr val="00da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781680" y="2809080"/>
                    <a:ext cx="380880" cy="66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 flipH="1">
                  <a:off x="6971400" y="1942560"/>
                  <a:ext cx="343080" cy="79992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91440" y="380880"/>
              <a:ext cx="30985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versals,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es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70000" y="2448000"/>
            <a:ext cx="8602560" cy="3343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reen Donne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90920" y="2031840"/>
          <a:ext cx="3506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31840"/>
                    <a:ext cx="3506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228600" y="914400"/>
            <a:ext cx="8686800" cy="5411520"/>
            <a:chOff x="228600" y="914400"/>
            <a:chExt cx="8686800" cy="5411520"/>
          </a:xfrm>
        </p:grpSpPr>
        <p:grpSp>
          <p:nvGrpSpPr>
            <p:cNvPr id="345" name=""/>
            <p:cNvGrpSpPr/>
            <p:nvPr/>
          </p:nvGrpSpPr>
          <p:grpSpPr>
            <a:xfrm>
              <a:off x="228600" y="914400"/>
              <a:ext cx="8686800" cy="4343400"/>
              <a:chOff x="228600" y="914400"/>
              <a:chExt cx="8686800" cy="4343400"/>
            </a:xfrm>
          </p:grpSpPr>
          <p:sp>
            <p:nvSpPr>
              <p:cNvPr id="346" name=""/>
              <p:cNvSpPr/>
              <p:nvPr/>
            </p:nvSpPr>
            <p:spPr>
              <a:xfrm>
                <a:off x="228600" y="914400"/>
                <a:ext cx="5867280" cy="43434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95880" y="914400"/>
                <a:ext cx="2819520" cy="4343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65640" y="568332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n-ontologi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22040" y="564192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ntologi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Ontolog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8040" y="2978280"/>
            <a:ext cx="846792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9200" y="2255760"/>
            <a:ext cx="801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Ter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35880" y="3919680"/>
            <a:ext cx="1608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Log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27200" y="2344680"/>
            <a:ext cx="9795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Thesau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79960" y="1795320"/>
            <a:ext cx="1608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for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Taxonom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7840" y="4000680"/>
            <a:ext cx="18651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Fra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(OKB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26160" y="3247920"/>
            <a:ext cx="18745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Data Mod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(UML, STE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8080" y="1157400"/>
            <a:ext cx="16034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Description Log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(DAML+OI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93960" y="3265560"/>
            <a:ext cx="17780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Principled, informal</a:t>
            </a:r>
            <a:r>
              <a:rPr b="0" lang="en-US" sz="1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hierarch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9920" y="1143000"/>
            <a:ext cx="15238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ad hoc Hierarch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(Yahoo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04720" y="2612520"/>
            <a:ext cx="253800" cy="489240"/>
            <a:chOff x="504720" y="2612520"/>
            <a:chExt cx="253800" cy="489240"/>
          </a:xfrm>
        </p:grpSpPr>
        <p:sp>
          <p:nvSpPr>
            <p:cNvPr id="362" name=""/>
            <p:cNvSpPr/>
            <p:nvPr/>
          </p:nvSpPr>
          <p:spPr>
            <a:xfrm>
              <a:off x="504720" y="2857320"/>
              <a:ext cx="253800" cy="24444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440"/>
                <a:gd name="textAreaBottom" fmla="*/ 143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31800" y="2612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86160" y="2530080"/>
            <a:ext cx="253440" cy="571680"/>
            <a:chOff x="3386160" y="2530080"/>
            <a:chExt cx="253440" cy="571680"/>
          </a:xfrm>
        </p:grpSpPr>
        <p:sp>
          <p:nvSpPr>
            <p:cNvPr id="365" name=""/>
            <p:cNvSpPr/>
            <p:nvPr/>
          </p:nvSpPr>
          <p:spPr>
            <a:xfrm>
              <a:off x="3386160" y="2856960"/>
              <a:ext cx="253440" cy="24480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12520" y="253008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270520" y="1500120"/>
            <a:ext cx="11671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structured</a:t>
            </a:r>
            <a:r>
              <a:rPr b="0" lang="en-US" sz="17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imes New Roman"/>
              </a:rPr>
              <a:t>Gloss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809880" y="2857680"/>
            <a:ext cx="253800" cy="407520"/>
            <a:chOff x="3809880" y="2857680"/>
            <a:chExt cx="253800" cy="407520"/>
          </a:xfrm>
        </p:grpSpPr>
        <p:sp>
          <p:nvSpPr>
            <p:cNvPr id="369" name=""/>
            <p:cNvSpPr/>
            <p:nvPr/>
          </p:nvSpPr>
          <p:spPr>
            <a:xfrm>
              <a:off x="3809880" y="2857680"/>
              <a:ext cx="253800" cy="24444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440"/>
                <a:gd name="textAreaBottom" fmla="*/ 143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36960" y="2939040"/>
              <a:ext cx="0" cy="32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052440" y="2205000"/>
            <a:ext cx="13042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XML DT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4040" y="3836880"/>
            <a:ext cx="13165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Dictionar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(EDI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3960" y="3316320"/>
            <a:ext cx="1161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‘</a:t>
            </a: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ordinary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Times New Roman"/>
              </a:rPr>
              <a:t>Glossar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19000" y="2857680"/>
            <a:ext cx="253800" cy="489600"/>
            <a:chOff x="819000" y="2857680"/>
            <a:chExt cx="253800" cy="489600"/>
          </a:xfrm>
        </p:grpSpPr>
        <p:sp>
          <p:nvSpPr>
            <p:cNvPr id="375" name=""/>
            <p:cNvSpPr/>
            <p:nvPr/>
          </p:nvSpPr>
          <p:spPr>
            <a:xfrm>
              <a:off x="819000" y="285768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946080" y="302076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62200" y="2857680"/>
            <a:ext cx="253440" cy="1061640"/>
            <a:chOff x="1762200" y="2857680"/>
            <a:chExt cx="253440" cy="1061640"/>
          </a:xfrm>
        </p:grpSpPr>
        <p:sp>
          <p:nvSpPr>
            <p:cNvPr id="378" name=""/>
            <p:cNvSpPr/>
            <p:nvPr/>
          </p:nvSpPr>
          <p:spPr>
            <a:xfrm flipV="1">
              <a:off x="1889280" y="2939400"/>
              <a:ext cx="0" cy="9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2200" y="2857680"/>
              <a:ext cx="253440" cy="24480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407480" y="1173240"/>
            <a:ext cx="921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XM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Sch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70080" y="1795320"/>
            <a:ext cx="253440" cy="1306440"/>
            <a:chOff x="1270080" y="1795320"/>
            <a:chExt cx="253440" cy="1306440"/>
          </a:xfrm>
        </p:grpSpPr>
        <p:sp>
          <p:nvSpPr>
            <p:cNvPr id="382" name=""/>
            <p:cNvSpPr/>
            <p:nvPr/>
          </p:nvSpPr>
          <p:spPr>
            <a:xfrm>
              <a:off x="1270080" y="2856960"/>
              <a:ext cx="253440" cy="24480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397160" y="1795320"/>
              <a:ext cx="0" cy="11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709720" y="2122200"/>
            <a:ext cx="253800" cy="979560"/>
            <a:chOff x="2709720" y="2122200"/>
            <a:chExt cx="253800" cy="979560"/>
          </a:xfrm>
        </p:grpSpPr>
        <p:sp>
          <p:nvSpPr>
            <p:cNvPr id="385" name=""/>
            <p:cNvSpPr/>
            <p:nvPr/>
          </p:nvSpPr>
          <p:spPr>
            <a:xfrm>
              <a:off x="2709720" y="285696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836800" y="2122200"/>
              <a:ext cx="0" cy="81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113720" y="4191120"/>
            <a:ext cx="921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DB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Sch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58920" y="2693520"/>
            <a:ext cx="253800" cy="408240"/>
            <a:chOff x="2158920" y="2693520"/>
            <a:chExt cx="253800" cy="408240"/>
          </a:xfrm>
        </p:grpSpPr>
        <p:sp>
          <p:nvSpPr>
            <p:cNvPr id="389" name=""/>
            <p:cNvSpPr/>
            <p:nvPr/>
          </p:nvSpPr>
          <p:spPr>
            <a:xfrm>
              <a:off x="2158920" y="285696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285640" y="269352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740120" y="1714680"/>
            <a:ext cx="253800" cy="1387080"/>
            <a:chOff x="4740120" y="1714680"/>
            <a:chExt cx="253800" cy="1387080"/>
          </a:xfrm>
        </p:grpSpPr>
        <p:sp>
          <p:nvSpPr>
            <p:cNvPr id="392" name=""/>
            <p:cNvSpPr/>
            <p:nvPr/>
          </p:nvSpPr>
          <p:spPr>
            <a:xfrm>
              <a:off x="4740120" y="285696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66840" y="1714680"/>
              <a:ext cx="0" cy="12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460840" y="2857680"/>
            <a:ext cx="253800" cy="489600"/>
            <a:chOff x="5460840" y="2857680"/>
            <a:chExt cx="253800" cy="489600"/>
          </a:xfrm>
        </p:grpSpPr>
        <p:sp>
          <p:nvSpPr>
            <p:cNvPr id="395" name=""/>
            <p:cNvSpPr/>
            <p:nvPr/>
          </p:nvSpPr>
          <p:spPr>
            <a:xfrm>
              <a:off x="5460840" y="285768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87560" y="302076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715000" y="2530080"/>
            <a:ext cx="253800" cy="571680"/>
            <a:chOff x="5715000" y="2530080"/>
            <a:chExt cx="253800" cy="571680"/>
          </a:xfrm>
        </p:grpSpPr>
        <p:sp>
          <p:nvSpPr>
            <p:cNvPr id="398" name=""/>
            <p:cNvSpPr/>
            <p:nvPr/>
          </p:nvSpPr>
          <p:spPr>
            <a:xfrm>
              <a:off x="5715000" y="285696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841720" y="2530080"/>
              <a:ext cx="0" cy="32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562800" y="2857680"/>
            <a:ext cx="253440" cy="1223280"/>
            <a:chOff x="6562800" y="2857680"/>
            <a:chExt cx="253440" cy="1223280"/>
          </a:xfrm>
        </p:grpSpPr>
        <p:sp>
          <p:nvSpPr>
            <p:cNvPr id="401" name=""/>
            <p:cNvSpPr/>
            <p:nvPr/>
          </p:nvSpPr>
          <p:spPr>
            <a:xfrm>
              <a:off x="6562800" y="2857680"/>
              <a:ext cx="253440" cy="24444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440"/>
                <a:gd name="textAreaBottom" fmla="*/ 143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687720" y="3102120"/>
              <a:ext cx="1440" cy="9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7364520" y="2041560"/>
            <a:ext cx="253440" cy="1059840"/>
            <a:chOff x="7364520" y="2041560"/>
            <a:chExt cx="253440" cy="1059840"/>
          </a:xfrm>
        </p:grpSpPr>
        <p:sp>
          <p:nvSpPr>
            <p:cNvPr id="404" name=""/>
            <p:cNvSpPr/>
            <p:nvPr/>
          </p:nvSpPr>
          <p:spPr>
            <a:xfrm>
              <a:off x="7364520" y="2856960"/>
              <a:ext cx="253440" cy="24444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440"/>
                <a:gd name="textAreaBottom" fmla="*/ 143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489440" y="2041560"/>
              <a:ext cx="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211960" y="2857680"/>
            <a:ext cx="253800" cy="1142640"/>
            <a:chOff x="8211960" y="2857680"/>
            <a:chExt cx="253800" cy="1142640"/>
          </a:xfrm>
        </p:grpSpPr>
        <p:sp>
          <p:nvSpPr>
            <p:cNvPr id="407" name=""/>
            <p:cNvSpPr/>
            <p:nvPr/>
          </p:nvSpPr>
          <p:spPr>
            <a:xfrm>
              <a:off x="8211960" y="2857680"/>
              <a:ext cx="253800" cy="244800"/>
            </a:xfrm>
            <a:custGeom>
              <a:avLst/>
              <a:gdLst>
                <a:gd name="textAreaLeft" fmla="*/ 104400 w 253800"/>
                <a:gd name="textAreaRight" fmla="*/ 149400 w 253800"/>
                <a:gd name="textAreaTop" fmla="*/ 100800 h 244800"/>
                <a:gd name="textAreaBottom" fmla="*/ 144000 h 24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8338680" y="3021120"/>
              <a:ext cx="0" cy="9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299120" y="2857680"/>
            <a:ext cx="253440" cy="1387080"/>
            <a:chOff x="4299120" y="2857680"/>
            <a:chExt cx="253440" cy="1387080"/>
          </a:xfrm>
        </p:grpSpPr>
        <p:sp>
          <p:nvSpPr>
            <p:cNvPr id="410" name=""/>
            <p:cNvSpPr/>
            <p:nvPr/>
          </p:nvSpPr>
          <p:spPr>
            <a:xfrm>
              <a:off x="4299120" y="2857680"/>
              <a:ext cx="253440" cy="244440"/>
            </a:xfrm>
            <a:custGeom>
              <a:avLst/>
              <a:gdLst>
                <a:gd name="textAreaLeft" fmla="*/ 104400 w 253440"/>
                <a:gd name="textAreaRight" fmla="*/ 149040 w 253440"/>
                <a:gd name="textAreaTop" fmla="*/ 100800 h 244440"/>
                <a:gd name="textAreaBottom" fmla="*/ 1436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6200" y="302112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52280" y="762120"/>
            <a:ext cx="6019920" cy="4876560"/>
            <a:chOff x="152280" y="762120"/>
            <a:chExt cx="6019920" cy="4876560"/>
          </a:xfrm>
        </p:grpSpPr>
        <p:sp>
          <p:nvSpPr>
            <p:cNvPr id="413" name=""/>
            <p:cNvSpPr/>
            <p:nvPr/>
          </p:nvSpPr>
          <p:spPr>
            <a:xfrm>
              <a:off x="228600" y="762120"/>
              <a:ext cx="5791320" cy="4724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2280" y="838080"/>
              <a:ext cx="6019920" cy="4800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a800"/>
                </a:solidFill>
                <a:latin typeface="Arial Black"/>
              </a:rPr>
              <a:t>national </a:t>
            </a:r>
            <a:br>
              <a:rPr sz="4800"/>
            </a:br>
            <a:r>
              <a:rPr b="0" lang="en-US" sz="4800" spc="-1" strike="noStrike">
                <a:solidFill>
                  <a:srgbClr val="e4a800"/>
                </a:solidFill>
                <a:latin typeface="Arial Black"/>
              </a:rPr>
              <a:t>center for </a:t>
            </a:r>
            <a:br>
              <a:rPr sz="4800"/>
            </a:br>
            <a:r>
              <a:rPr b="0" lang="en-US" sz="4800" spc="-1" strike="noStrike">
                <a:solidFill>
                  <a:srgbClr val="e4a800"/>
                </a:solidFill>
                <a:latin typeface="Arial Black"/>
              </a:rPr>
              <a:t>ontological </a:t>
            </a:r>
            <a:br>
              <a:rPr sz="4800"/>
            </a:br>
            <a:r>
              <a:rPr b="0" lang="en-US" sz="4800" spc="-1" strike="noStrike">
                <a:solidFill>
                  <a:srgbClr val="e4a800"/>
                </a:solidFill>
                <a:latin typeface="Arial Black"/>
              </a:rPr>
              <a:t>resear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6229080" cy="438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010280" y="25146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7010280" y="3657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8077320" y="25146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8077320" y="3657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8086680" y="472428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248520" y="0"/>
            <a:ext cx="2895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228600" y="228600"/>
            <a:ext cx="4724280" cy="709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6320" y="6140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nded October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first order predicate logic with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sjoint sorts: entities and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of 4D spac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imension less than 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, v,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variables for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ersistent: s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t: Endurants, perdu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variables for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reology of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ce-time and time-s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3581280"/>
            <a:ext cx="2286000" cy="1981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236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model of Space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886200" y="3124080"/>
            <a:ext cx="1371600" cy="1524240"/>
            <a:chOff x="3886200" y="3124080"/>
            <a:chExt cx="1371600" cy="1524240"/>
          </a:xfrm>
        </p:grpSpPr>
        <p:sp>
          <p:nvSpPr>
            <p:cNvPr id="434" name=""/>
            <p:cNvSpPr/>
            <p:nvPr/>
          </p:nvSpPr>
          <p:spPr>
            <a:xfrm>
              <a:off x="3886200" y="31240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86200" y="4419720"/>
              <a:ext cx="1371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257800" y="3200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6200" y="3124080"/>
              <a:ext cx="1371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105520" y="4673520"/>
            <a:ext cx="26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time-slice 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7913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time-slice 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600200" y="3517920"/>
            <a:ext cx="1752480" cy="2209680"/>
            <a:chOff x="1600200" y="3517920"/>
            <a:chExt cx="1752480" cy="2209680"/>
          </a:xfrm>
        </p:grpSpPr>
        <p:sp>
          <p:nvSpPr>
            <p:cNvPr id="441" name=""/>
            <p:cNvSpPr/>
            <p:nvPr/>
          </p:nvSpPr>
          <p:spPr>
            <a:xfrm>
              <a:off x="1600200" y="5422680"/>
              <a:ext cx="17524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600200" y="3517920"/>
              <a:ext cx="1752480" cy="2209320"/>
              <a:chOff x="1600200" y="3517920"/>
              <a:chExt cx="1752480" cy="2209320"/>
            </a:xfrm>
          </p:grpSpPr>
          <p:sp>
            <p:nvSpPr>
              <p:cNvPr id="443" name=""/>
              <p:cNvSpPr/>
              <p:nvPr/>
            </p:nvSpPr>
            <p:spPr>
              <a:xfrm>
                <a:off x="1600200" y="3517920"/>
                <a:ext cx="17524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352680" y="366984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00200" y="35179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5410080" y="2857680"/>
            <a:ext cx="914400" cy="1066320"/>
            <a:chOff x="5410080" y="2857680"/>
            <a:chExt cx="914400" cy="1066320"/>
          </a:xfrm>
        </p:grpSpPr>
        <p:sp>
          <p:nvSpPr>
            <p:cNvPr id="447" name=""/>
            <p:cNvSpPr/>
            <p:nvPr/>
          </p:nvSpPr>
          <p:spPr>
            <a:xfrm>
              <a:off x="5410080" y="285768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0080" y="2857680"/>
              <a:ext cx="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10080" y="3771720"/>
              <a:ext cx="914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324480" y="293328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248520" y="388620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time slice 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part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u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binary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d as ‘the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art of the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u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uv &amp; P v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u = 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uv &amp; P vw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 u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tiv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267080"/>
            <a:ext cx="1143000" cy="990720"/>
          </a:xfrm>
          <a:prstGeom prst="ellipse">
            <a:avLst/>
          </a:prstGeom>
          <a:noFill/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3962520"/>
            <a:ext cx="1676160" cy="152388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66120" y="198108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&amp; P vw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 u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tiv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3962520"/>
            <a:ext cx="1676160" cy="152388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3124080"/>
            <a:ext cx="2819160" cy="2819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65760" y="1981080"/>
            <a:ext cx="36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uv &amp; P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 u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tiv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2680" y="4267080"/>
            <a:ext cx="1143000" cy="990720"/>
          </a:xfrm>
          <a:prstGeom prst="ellipse">
            <a:avLst/>
          </a:prstGeom>
          <a:noFill/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8120" y="3962520"/>
            <a:ext cx="1676160" cy="152388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0920" y="3124080"/>
            <a:ext cx="2819160" cy="2819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66120" y="198108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uv &amp; P vw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parthoo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gions overlap iff they share a common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P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&amp; P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4800600"/>
            <a:ext cx="1676160" cy="1219320"/>
          </a:xfrm>
          <a:prstGeom prst="ellipse">
            <a:avLst/>
          </a:prstGeom>
          <a:noFill/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38480" y="4800600"/>
            <a:ext cx="1676520" cy="1523880"/>
          </a:xfrm>
          <a:prstGeom prst="ellipse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410080"/>
            <a:ext cx="304920" cy="2286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and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reology of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o-temporal entities and their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s: stages, endurants, and perdu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9440" indent="-609840">
              <a:spcBef>
                <a:spcPts val="799"/>
              </a:spcBef>
              <a:buClr>
                <a:srgbClr val="000000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parthoo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gions overlap iff they share a common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 uv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)(P wu &amp; P w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supplementat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erything that overlap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overlap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ar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w)(O w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 wv)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extensional mereology for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ce-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space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-time is a maximal region that has all regions as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 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v) P 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 u &amp; ST v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u =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om: Existence of space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) ST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symbol for space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ce-time and spatial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876920" y="3657600"/>
            <a:ext cx="457200" cy="685800"/>
            <a:chOff x="4876920" y="3657600"/>
            <a:chExt cx="457200" cy="685800"/>
          </a:xfrm>
        </p:grpSpPr>
        <p:sp>
          <p:nvSpPr>
            <p:cNvPr id="478" name=""/>
            <p:cNvSpPr/>
            <p:nvPr/>
          </p:nvSpPr>
          <p:spPr>
            <a:xfrm>
              <a:off x="4876920" y="3657600"/>
              <a:ext cx="0" cy="582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76920" y="4240440"/>
              <a:ext cx="457200" cy="10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334120" y="3691800"/>
              <a:ext cx="0" cy="65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6920" y="3657600"/>
              <a:ext cx="457200" cy="34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600200" y="3517920"/>
            <a:ext cx="1752480" cy="2209680"/>
            <a:chOff x="1600200" y="3517920"/>
            <a:chExt cx="1752480" cy="2209680"/>
          </a:xfrm>
        </p:grpSpPr>
        <p:sp>
          <p:nvSpPr>
            <p:cNvPr id="483" name=""/>
            <p:cNvSpPr/>
            <p:nvPr/>
          </p:nvSpPr>
          <p:spPr>
            <a:xfrm>
              <a:off x="1600200" y="5422680"/>
              <a:ext cx="175248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1600200" y="3517920"/>
              <a:ext cx="1752480" cy="2209320"/>
              <a:chOff x="1600200" y="3517920"/>
              <a:chExt cx="1752480" cy="220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600200" y="3517920"/>
                <a:ext cx="1752480" cy="152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3352680" y="3669840"/>
                <a:ext cx="0" cy="2057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00200" y="35179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5410080" y="2857680"/>
            <a:ext cx="914400" cy="1066320"/>
            <a:chOff x="5410080" y="2857680"/>
            <a:chExt cx="914400" cy="1066320"/>
          </a:xfrm>
        </p:grpSpPr>
        <p:sp>
          <p:nvSpPr>
            <p:cNvPr id="489" name=""/>
            <p:cNvSpPr/>
            <p:nvPr/>
          </p:nvSpPr>
          <p:spPr>
            <a:xfrm>
              <a:off x="5410080" y="2857680"/>
              <a:ext cx="91440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10080" y="2857680"/>
              <a:ext cx="0" cy="914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10080" y="3771720"/>
              <a:ext cx="9144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324480" y="2933280"/>
              <a:ext cx="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329440" y="4846680"/>
            <a:ext cx="34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patial regi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gions that are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tended i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666880" y="3886200"/>
            <a:ext cx="990720" cy="1294920"/>
            <a:chOff x="2666880" y="3886200"/>
            <a:chExt cx="990720" cy="1294920"/>
          </a:xfrm>
        </p:grpSpPr>
        <p:sp>
          <p:nvSpPr>
            <p:cNvPr id="495" name=""/>
            <p:cNvSpPr/>
            <p:nvPr/>
          </p:nvSpPr>
          <p:spPr>
            <a:xfrm>
              <a:off x="2666880" y="5002560"/>
              <a:ext cx="990720" cy="178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666880" y="3886200"/>
              <a:ext cx="990720" cy="1294920"/>
              <a:chOff x="2666880" y="3886200"/>
              <a:chExt cx="990720" cy="1294920"/>
            </a:xfrm>
          </p:grpSpPr>
          <p:sp>
            <p:nvSpPr>
              <p:cNvPr id="497" name=""/>
              <p:cNvSpPr/>
              <p:nvPr/>
            </p:nvSpPr>
            <p:spPr>
              <a:xfrm>
                <a:off x="2666880" y="3886200"/>
                <a:ext cx="990720" cy="88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57600" y="3975120"/>
                <a:ext cx="0" cy="1206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666880" y="3886200"/>
                <a:ext cx="0" cy="1116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3809880" y="3581280"/>
            <a:ext cx="990720" cy="1295280"/>
            <a:chOff x="3809880" y="3581280"/>
            <a:chExt cx="990720" cy="1295280"/>
          </a:xfrm>
        </p:grpSpPr>
        <p:sp>
          <p:nvSpPr>
            <p:cNvPr id="501" name=""/>
            <p:cNvSpPr/>
            <p:nvPr/>
          </p:nvSpPr>
          <p:spPr>
            <a:xfrm>
              <a:off x="3809880" y="4698000"/>
              <a:ext cx="990720" cy="178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3809880" y="3581280"/>
              <a:ext cx="990720" cy="1295280"/>
              <a:chOff x="3809880" y="3581280"/>
              <a:chExt cx="990720" cy="1295280"/>
            </a:xfrm>
          </p:grpSpPr>
          <p:sp>
            <p:nvSpPr>
              <p:cNvPr id="503" name=""/>
              <p:cNvSpPr/>
              <p:nvPr/>
            </p:nvSpPr>
            <p:spPr>
              <a:xfrm>
                <a:off x="3809880" y="3581280"/>
                <a:ext cx="990720" cy="89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4800600" y="3670200"/>
                <a:ext cx="0" cy="1206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09880" y="3581280"/>
                <a:ext cx="0" cy="11167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1295280" y="2697120"/>
            <a:ext cx="6652800" cy="2865600"/>
            <a:chOff x="1295280" y="2697120"/>
            <a:chExt cx="6652800" cy="2865600"/>
          </a:xfrm>
        </p:grpSpPr>
        <p:grpSp>
          <p:nvGrpSpPr>
            <p:cNvPr id="507" name=""/>
            <p:cNvGrpSpPr/>
            <p:nvPr/>
          </p:nvGrpSpPr>
          <p:grpSpPr>
            <a:xfrm>
              <a:off x="1295280" y="2697120"/>
              <a:ext cx="2286000" cy="2865600"/>
              <a:chOff x="1295280" y="2697120"/>
              <a:chExt cx="2286000" cy="2865600"/>
            </a:xfrm>
          </p:grpSpPr>
          <p:sp>
            <p:nvSpPr>
              <p:cNvPr id="508" name=""/>
              <p:cNvSpPr/>
              <p:nvPr/>
            </p:nvSpPr>
            <p:spPr>
              <a:xfrm>
                <a:off x="1295280" y="3581280"/>
                <a:ext cx="2286000" cy="198144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28800" y="26971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705720" y="3428640"/>
              <a:ext cx="838080" cy="609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23400" y="354636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regions and time-s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 un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atial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that are not extend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sl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al spat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 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R u &amp; (v)(SR v &amp; O uv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 v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-sli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patial reg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s a spatial reg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ar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ce-time and time-s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95280" y="2697120"/>
            <a:ext cx="2286000" cy="2865600"/>
            <a:chOff x="1295280" y="2697120"/>
            <a:chExt cx="2286000" cy="2865600"/>
          </a:xfrm>
        </p:grpSpPr>
        <p:sp>
          <p:nvSpPr>
            <p:cNvPr id="516" name=""/>
            <p:cNvSpPr/>
            <p:nvPr/>
          </p:nvSpPr>
          <p:spPr>
            <a:xfrm>
              <a:off x="1295280" y="3581280"/>
              <a:ext cx="2286000" cy="198144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28800" y="26971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600200" y="2857680"/>
            <a:ext cx="5934600" cy="2977200"/>
            <a:chOff x="1600200" y="2857680"/>
            <a:chExt cx="5934600" cy="2977200"/>
          </a:xfrm>
        </p:grpSpPr>
        <p:grpSp>
          <p:nvGrpSpPr>
            <p:cNvPr id="519" name=""/>
            <p:cNvGrpSpPr/>
            <p:nvPr/>
          </p:nvGrpSpPr>
          <p:grpSpPr>
            <a:xfrm>
              <a:off x="3886200" y="3124080"/>
              <a:ext cx="1371600" cy="1524240"/>
              <a:chOff x="3886200" y="3124080"/>
              <a:chExt cx="1371600" cy="1524240"/>
            </a:xfrm>
          </p:grpSpPr>
          <p:sp>
            <p:nvSpPr>
              <p:cNvPr id="520" name=""/>
              <p:cNvSpPr/>
              <p:nvPr/>
            </p:nvSpPr>
            <p:spPr>
              <a:xfrm>
                <a:off x="3886200" y="31240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86200" y="4419720"/>
                <a:ext cx="1371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257800" y="3200400"/>
                <a:ext cx="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886200" y="3124080"/>
                <a:ext cx="1371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1600200" y="3517920"/>
              <a:ext cx="1752480" cy="2209680"/>
              <a:chOff x="1600200" y="3517920"/>
              <a:chExt cx="1752480" cy="2209680"/>
            </a:xfrm>
          </p:grpSpPr>
          <p:sp>
            <p:nvSpPr>
              <p:cNvPr id="525" name=""/>
              <p:cNvSpPr/>
              <p:nvPr/>
            </p:nvSpPr>
            <p:spPr>
              <a:xfrm>
                <a:off x="1600200" y="5422680"/>
                <a:ext cx="17524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6" name=""/>
              <p:cNvGrpSpPr/>
              <p:nvPr/>
            </p:nvGrpSpPr>
            <p:grpSpPr>
              <a:xfrm>
                <a:off x="1600200" y="3517920"/>
                <a:ext cx="1752480" cy="2209320"/>
                <a:chOff x="1600200" y="3517920"/>
                <a:chExt cx="1752480" cy="2209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600200" y="3517920"/>
                  <a:ext cx="1752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352680" y="3669840"/>
                  <a:ext cx="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00200" y="351792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0" name=""/>
            <p:cNvGrpSpPr/>
            <p:nvPr/>
          </p:nvGrpSpPr>
          <p:grpSpPr>
            <a:xfrm>
              <a:off x="5410080" y="2857680"/>
              <a:ext cx="914400" cy="1066320"/>
              <a:chOff x="5410080" y="2857680"/>
              <a:chExt cx="914400" cy="1066320"/>
            </a:xfrm>
          </p:grpSpPr>
          <p:sp>
            <p:nvSpPr>
              <p:cNvPr id="531" name=""/>
              <p:cNvSpPr/>
              <p:nvPr/>
            </p:nvSpPr>
            <p:spPr>
              <a:xfrm>
                <a:off x="5410080" y="2857680"/>
                <a:ext cx="9144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10080" y="2857680"/>
                <a:ext cx="0" cy="9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10080" y="3771720"/>
                <a:ext cx="9144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324480" y="293328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5927760" y="5375160"/>
              <a:ext cx="16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-sl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352320" y="5486400"/>
              <a:ext cx="2514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5257440" y="434304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5790960" y="3885840"/>
              <a:ext cx="7596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7315200" y="3200400"/>
            <a:ext cx="68580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80600" y="3317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regions and time-slic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atial region the so are its part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R u &amp; P v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R 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region overlaps some time-slic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)(TS u &amp; O 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-time is not a spatial region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90640" y="205740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regions and time-slic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tial regions are proper parts of space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time-slices do not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patial region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art of some time-s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egion is part of at most one time-s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laps space-time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laps some time-s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4880" y="2209680"/>
            <a:ext cx="27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l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regions are not spatial region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 u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143000" y="3459240"/>
            <a:ext cx="7110000" cy="2864880"/>
            <a:chOff x="1143000" y="3459240"/>
            <a:chExt cx="7110000" cy="2864880"/>
          </a:xfrm>
        </p:grpSpPr>
        <p:grpSp>
          <p:nvGrpSpPr>
            <p:cNvPr id="550" name=""/>
            <p:cNvGrpSpPr/>
            <p:nvPr/>
          </p:nvGrpSpPr>
          <p:grpSpPr>
            <a:xfrm>
              <a:off x="1143000" y="3459240"/>
              <a:ext cx="2286000" cy="2864880"/>
              <a:chOff x="1143000" y="3459240"/>
              <a:chExt cx="2286000" cy="2864880"/>
            </a:xfrm>
          </p:grpSpPr>
          <p:sp>
            <p:nvSpPr>
              <p:cNvPr id="551" name=""/>
              <p:cNvSpPr/>
              <p:nvPr/>
            </p:nvSpPr>
            <p:spPr>
              <a:xfrm>
                <a:off x="1143000" y="4343040"/>
                <a:ext cx="2286000" cy="198108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76520" y="345924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flipV="1">
              <a:off x="7162920" y="3962520"/>
              <a:ext cx="68580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28320" y="40798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 flipV="1">
            <a:off x="5791320" y="4114440"/>
            <a:ext cx="1295280" cy="7621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743200" y="4571640"/>
            <a:ext cx="2057400" cy="1600200"/>
            <a:chOff x="2743200" y="4571640"/>
            <a:chExt cx="2057400" cy="1600200"/>
          </a:xfrm>
        </p:grpSpPr>
        <p:grpSp>
          <p:nvGrpSpPr>
            <p:cNvPr id="557" name=""/>
            <p:cNvGrpSpPr/>
            <p:nvPr/>
          </p:nvGrpSpPr>
          <p:grpSpPr>
            <a:xfrm>
              <a:off x="2743200" y="4876920"/>
              <a:ext cx="990720" cy="1294920"/>
              <a:chOff x="2743200" y="4876920"/>
              <a:chExt cx="990720" cy="129492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5993280"/>
                <a:ext cx="990720" cy="178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2743200" y="4876920"/>
                <a:ext cx="990720" cy="1294920"/>
                <a:chOff x="2743200" y="4876920"/>
                <a:chExt cx="990720" cy="12949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2743200" y="4876920"/>
                  <a:ext cx="990720" cy="889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V="1">
                  <a:off x="3733920" y="4965840"/>
                  <a:ext cx="0" cy="12060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43200" y="4876920"/>
                  <a:ext cx="0" cy="11163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4038480" y="4572000"/>
              <a:ext cx="762120" cy="990360"/>
              <a:chOff x="4038480" y="4572000"/>
              <a:chExt cx="762120" cy="990360"/>
            </a:xfrm>
          </p:grpSpPr>
          <p:sp>
            <p:nvSpPr>
              <p:cNvPr id="564" name=""/>
              <p:cNvSpPr/>
              <p:nvPr/>
            </p:nvSpPr>
            <p:spPr>
              <a:xfrm>
                <a:off x="4038480" y="5425920"/>
                <a:ext cx="762120" cy="136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4038480" y="4572000"/>
                <a:ext cx="762120" cy="990360"/>
                <a:chOff x="4038480" y="4572000"/>
                <a:chExt cx="762120" cy="99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38480" y="4572000"/>
                  <a:ext cx="762120" cy="680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4800600" y="4640040"/>
                  <a:ext cx="0" cy="9223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038480" y="4572000"/>
                  <a:ext cx="0" cy="8539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9" name=""/>
            <p:cNvSpPr/>
            <p:nvPr/>
          </p:nvSpPr>
          <p:spPr>
            <a:xfrm flipV="1">
              <a:off x="3733920" y="4648320"/>
              <a:ext cx="106668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743200" y="4571640"/>
              <a:ext cx="12952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743200" y="5410080"/>
              <a:ext cx="1295280" cy="609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733920" y="5562360"/>
              <a:ext cx="106668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657600" y="3657240"/>
            <a:ext cx="2438280" cy="381240"/>
            <a:chOff x="3657600" y="3657240"/>
            <a:chExt cx="2438280" cy="381240"/>
          </a:xfrm>
        </p:grpSpPr>
        <p:sp>
          <p:nvSpPr>
            <p:cNvPr id="574" name=""/>
            <p:cNvSpPr/>
            <p:nvPr/>
          </p:nvSpPr>
          <p:spPr>
            <a:xfrm>
              <a:off x="3657600" y="3886200"/>
              <a:ext cx="1143000" cy="152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4120" y="3657600"/>
              <a:ext cx="685800" cy="76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800600" y="3733920"/>
              <a:ext cx="129528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33920" y="3657240"/>
              <a:ext cx="160020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l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-time is a temporal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which have temporal regions as parts are tempor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emporal region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laps more than one time-s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regions are not spatial region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 u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R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taneous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gions are simultaneous iff they are part of the same time sli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U uv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)(TS w &amp; P uw &amp; P v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ai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4588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work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l ontolog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provid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-level no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arious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level n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, region of space/time/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s and particu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urant (substance) / perdurant (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taneous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gions are simultaneous iff they are part of the same time sli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U uv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)(TS w &amp; P uw &amp; P v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U u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fal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emporal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parts of different time sl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tio-temporal ent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their instantiation at regions in space-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tio-temporal entities and their 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o-tempor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entiti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urants, perdurants,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antiation of spatio-temporal e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o-temporal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s: Endurants, perdurants,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nary rel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 xy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preted as ‘the ent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tiates ent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in terms of 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ca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tiates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stantiated by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x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preted as ‘the ent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(exactly) located at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located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kes up the whol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extend beyo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219320" y="5715000"/>
            <a:ext cx="6642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in terms of 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articular i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antiates where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502320" cy="4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in terms of 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articular i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antiates where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502320" cy="416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762120" y="3733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universal i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stantiated where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65530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in terms of 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ly located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niquely located if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ocated at a single region of space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73789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oms for instantiation/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oncrete entity is located at some reg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)L 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90000" y="2438280"/>
            <a:ext cx="30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bstrac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NOT located in 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 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numbers, pre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285640" y="1600200"/>
            <a:ext cx="2057400" cy="8380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572000" y="1600200"/>
            <a:ext cx="4269600" cy="3126600"/>
            <a:chOff x="4572000" y="1600200"/>
            <a:chExt cx="4269600" cy="3126600"/>
          </a:xfrm>
        </p:grpSpPr>
        <p:sp>
          <p:nvSpPr>
            <p:cNvPr id="610" name=""/>
            <p:cNvSpPr/>
            <p:nvPr/>
          </p:nvSpPr>
          <p:spPr>
            <a:xfrm>
              <a:off x="5388840" y="2438280"/>
              <a:ext cx="345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ncrete 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ED i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Space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u, me, your lif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your arm, your childh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160020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2286000"/>
            <a:ext cx="3581280" cy="2209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9480" y="2437920"/>
            <a:ext cx="3657600" cy="2210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590920" y="1943280"/>
            <a:ext cx="3891600" cy="3855960"/>
            <a:chOff x="2590920" y="1943280"/>
            <a:chExt cx="3891600" cy="3855960"/>
          </a:xfrm>
        </p:grpSpPr>
        <p:sp>
          <p:nvSpPr>
            <p:cNvPr id="58" name=""/>
            <p:cNvSpPr/>
            <p:nvPr/>
          </p:nvSpPr>
          <p:spPr>
            <a:xfrm flipH="1" flipV="1">
              <a:off x="3674520" y="3720960"/>
              <a:ext cx="44892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19400" y="4453200"/>
              <a:ext cx="275760" cy="41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200040" y="4770720"/>
              <a:ext cx="1013760" cy="1028520"/>
              <a:chOff x="3200040" y="4770720"/>
              <a:chExt cx="1013760" cy="1028520"/>
            </a:xfrm>
          </p:grpSpPr>
          <p:sp>
            <p:nvSpPr>
              <p:cNvPr id="61" name=""/>
              <p:cNvSpPr/>
              <p:nvPr/>
            </p:nvSpPr>
            <p:spPr>
              <a:xfrm>
                <a:off x="3200040" y="4770720"/>
                <a:ext cx="1013760" cy="1028520"/>
              </a:xfrm>
              <a:prstGeom prst="ellipse">
                <a:avLst/>
              </a:prstGeom>
              <a:solidFill>
                <a:srgbClr val="fb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55840" y="5109840"/>
                <a:ext cx="90324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olog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849560" y="4451400"/>
              <a:ext cx="27576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017680" y="3719160"/>
              <a:ext cx="45072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571640" y="3008160"/>
              <a:ext cx="144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100400" y="3524400"/>
              <a:ext cx="943920" cy="1028880"/>
              <a:chOff x="4100400" y="3524400"/>
              <a:chExt cx="943920" cy="1028880"/>
            </a:xfrm>
          </p:grpSpPr>
          <p:sp>
            <p:nvSpPr>
              <p:cNvPr id="67" name=""/>
              <p:cNvSpPr/>
              <p:nvPr/>
            </p:nvSpPr>
            <p:spPr>
              <a:xfrm>
                <a:off x="4100400" y="3524400"/>
                <a:ext cx="943920" cy="1028880"/>
              </a:xfrm>
              <a:prstGeom prst="ellipse">
                <a:avLst/>
              </a:prstGeom>
              <a:solidFill>
                <a:srgbClr val="ff2300">
                  <a:alpha val="6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88240" y="3817800"/>
                <a:ext cx="76608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L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812120" y="4768920"/>
              <a:ext cx="1182240" cy="1028880"/>
              <a:chOff x="4812120" y="4768920"/>
              <a:chExt cx="1182240" cy="1028880"/>
            </a:xfrm>
          </p:grpSpPr>
          <p:sp>
            <p:nvSpPr>
              <p:cNvPr id="70" name=""/>
              <p:cNvSpPr/>
              <p:nvPr/>
            </p:nvSpPr>
            <p:spPr>
              <a:xfrm>
                <a:off x="4930200" y="4768920"/>
                <a:ext cx="943200" cy="1028880"/>
              </a:xfrm>
              <a:prstGeom prst="ellipse">
                <a:avLst/>
              </a:prstGeom>
              <a:solidFill>
                <a:srgbClr val="db9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12120" y="5108760"/>
                <a:ext cx="118224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ydrolog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038480" y="1943280"/>
              <a:ext cx="1066320" cy="1028880"/>
              <a:chOff x="4038480" y="1943280"/>
              <a:chExt cx="1066320" cy="1028880"/>
            </a:xfrm>
          </p:grpSpPr>
          <p:sp>
            <p:nvSpPr>
              <p:cNvPr id="73" name=""/>
              <p:cNvSpPr/>
              <p:nvPr/>
            </p:nvSpPr>
            <p:spPr>
              <a:xfrm>
                <a:off x="4038480" y="1943280"/>
                <a:ext cx="1066320" cy="1028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064040" y="2054160"/>
                <a:ext cx="10130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viron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438880" y="3046680"/>
              <a:ext cx="1043640" cy="1028520"/>
              <a:chOff x="5438880" y="3046680"/>
              <a:chExt cx="1043640" cy="1028520"/>
            </a:xfrm>
          </p:grpSpPr>
          <p:sp>
            <p:nvSpPr>
              <p:cNvPr id="76" name=""/>
              <p:cNvSpPr/>
              <p:nvPr/>
            </p:nvSpPr>
            <p:spPr>
              <a:xfrm>
                <a:off x="5444640" y="3046680"/>
                <a:ext cx="1031400" cy="1028520"/>
              </a:xfrm>
              <a:prstGeom prst="ellipse">
                <a:avLst/>
              </a:prstGeom>
              <a:solidFill>
                <a:srgbClr val="00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38880" y="3247920"/>
                <a:ext cx="1043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ien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590920" y="3124440"/>
              <a:ext cx="1141200" cy="1066680"/>
              <a:chOff x="2590920" y="3124440"/>
              <a:chExt cx="1141200" cy="106668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3124440"/>
                <a:ext cx="1141200" cy="1066680"/>
              </a:xfrm>
              <a:prstGeom prst="ellipse">
                <a:avLst/>
              </a:prstGeom>
              <a:solidFill>
                <a:srgbClr val="cdca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27640" y="3483360"/>
                <a:ext cx="106812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78120" tIns="38160" bIns="38160" anchor="ctr">
                <a:spAutoFit/>
              </a:bodyPr>
              <a:p>
                <a:pPr marL="39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c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p-level vs. domain ontolog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733920" y="1905120"/>
            <a:ext cx="4776480" cy="2971800"/>
            <a:chOff x="3733920" y="1905120"/>
            <a:chExt cx="4776480" cy="2971800"/>
          </a:xfrm>
        </p:grpSpPr>
        <p:sp>
          <p:nvSpPr>
            <p:cNvPr id="83" name=""/>
            <p:cNvSpPr/>
            <p:nvPr/>
          </p:nvSpPr>
          <p:spPr>
            <a:xfrm>
              <a:off x="5744160" y="1905120"/>
              <a:ext cx="27662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rovides semantic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ound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28480" y="3733560"/>
              <a:ext cx="381240" cy="152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571280" y="3048120"/>
              <a:ext cx="180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3733920" y="3733560"/>
              <a:ext cx="380880" cy="152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036680" y="4419720"/>
              <a:ext cx="30636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920" y="4419720"/>
              <a:ext cx="22860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92200" y="4266720"/>
            <a:ext cx="3521880" cy="1002240"/>
            <a:chOff x="592200" y="4266720"/>
            <a:chExt cx="3521880" cy="1002240"/>
          </a:xfrm>
        </p:grpSpPr>
        <p:sp>
          <p:nvSpPr>
            <p:cNvPr id="90" name=""/>
            <p:cNvSpPr/>
            <p:nvPr/>
          </p:nvSpPr>
          <p:spPr>
            <a:xfrm>
              <a:off x="592200" y="4537080"/>
              <a:ext cx="1268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Top-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904040" y="4266720"/>
              <a:ext cx="2210040" cy="685800"/>
            </a:xfrm>
            <a:prstGeom prst="line">
              <a:avLst/>
            </a:prstGeom>
            <a:ln w="38160">
              <a:solidFill>
                <a:srgbClr val="3a28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156360" y="3840120"/>
            <a:ext cx="2298600" cy="1275480"/>
            <a:chOff x="6156360" y="3840120"/>
            <a:chExt cx="2298600" cy="1275480"/>
          </a:xfrm>
        </p:grpSpPr>
        <p:sp>
          <p:nvSpPr>
            <p:cNvPr id="93" name=""/>
            <p:cNvSpPr/>
            <p:nvPr/>
          </p:nvSpPr>
          <p:spPr>
            <a:xfrm>
              <a:off x="7067880" y="4383720"/>
              <a:ext cx="1387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097"/>
                  </a:solidFill>
                  <a:latin typeface="Times New Roman"/>
                  <a:ea typeface="Times New Roman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097"/>
                  </a:solidFill>
                  <a:latin typeface="Times New Roman"/>
                  <a:ea typeface="Times New Roman"/>
                </a:rPr>
                <a:t>ontolog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6360" y="3840120"/>
              <a:ext cx="1550880" cy="693000"/>
            </a:xfrm>
            <a:prstGeom prst="line">
              <a:avLst/>
            </a:prstGeom>
            <a:ln w="38160">
              <a:solidFill>
                <a:srgbClr val="007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oms for instantiation/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oncrete entity is located at some reg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)L 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ti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n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143000" y="4178160"/>
            <a:ext cx="6311880" cy="47016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740880" y="4952880"/>
            <a:ext cx="8047440" cy="1582920"/>
            <a:chOff x="740880" y="4952880"/>
            <a:chExt cx="8047440" cy="1582920"/>
          </a:xfrm>
        </p:grpSpPr>
        <p:sp>
          <p:nvSpPr>
            <p:cNvPr id="618" name=""/>
            <p:cNvSpPr/>
            <p:nvPr/>
          </p:nvSpPr>
          <p:spPr>
            <a:xfrm>
              <a:off x="740880" y="4952880"/>
              <a:ext cx="6582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ery entity is located only at spatial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regions or only at temporal reg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2"/>
            <a:stretch/>
          </p:blipFill>
          <p:spPr>
            <a:xfrm>
              <a:off x="1143000" y="6095880"/>
              <a:ext cx="764532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oms for instantiation/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anti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a temporal reg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quely lo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5029200" cy="419040"/>
          </a:xfrm>
          <a:prstGeom prst="rect">
            <a:avLst/>
          </a:prstGeom>
          <a:ln w="0">
            <a:noFill/>
          </a:ln>
        </p:spPr>
      </p:pic>
      <p:grpSp>
        <p:nvGrpSpPr>
          <p:cNvPr id="623" name=""/>
          <p:cNvGrpSpPr/>
          <p:nvPr/>
        </p:nvGrpSpPr>
        <p:grpSpPr>
          <a:xfrm>
            <a:off x="457200" y="4495680"/>
            <a:ext cx="8305920" cy="1677960"/>
            <a:chOff x="457200" y="4495680"/>
            <a:chExt cx="8305920" cy="1677960"/>
          </a:xfrm>
        </p:grpSpPr>
        <p:sp>
          <p:nvSpPr>
            <p:cNvPr id="624" name=""/>
            <p:cNvSpPr/>
            <p:nvPr/>
          </p:nvSpPr>
          <p:spPr>
            <a:xfrm>
              <a:off x="828360" y="4495680"/>
              <a:ext cx="6823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o particular can be located at distinct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simultaneous reg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457200" y="5791320"/>
              <a:ext cx="8305920" cy="38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oms for instantiation/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versal has either only uniquely located or non-uniquely located entities as insta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7443720" cy="39852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380880" y="4495680"/>
            <a:ext cx="8534520" cy="1727280"/>
            <a:chOff x="380880" y="4495680"/>
            <a:chExt cx="8534520" cy="1727280"/>
          </a:xfrm>
        </p:grpSpPr>
        <p:sp>
          <p:nvSpPr>
            <p:cNvPr id="630" name=""/>
            <p:cNvSpPr/>
            <p:nvPr/>
          </p:nvSpPr>
          <p:spPr>
            <a:xfrm>
              <a:off x="826200" y="4495680"/>
              <a:ext cx="7678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very universal has at least two distinct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instances that are located at different reg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2"/>
            <a:stretch/>
          </p:blipFill>
          <p:spPr>
            <a:xfrm>
              <a:off x="380880" y="5791320"/>
              <a:ext cx="853452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inct character of endurants, perdurants and stages manifests itself in the different ways they are located in space-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articula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x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599840" y="1676520"/>
            <a:ext cx="2895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9720" y="2959200"/>
            <a:ext cx="23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not per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tages of a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2702160"/>
            <a:ext cx="1830960" cy="2253960"/>
            <a:chOff x="1828800" y="2702160"/>
            <a:chExt cx="1830960" cy="225396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rcRect l="293" t="1910" r="50997" b="54203"/>
            <a:stretch/>
          </p:blipFill>
          <p:spPr>
            <a:xfrm rot="342600">
              <a:off x="2052720" y="2773080"/>
              <a:ext cx="1520640" cy="18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" name=""/>
            <p:cNvGrpSpPr/>
            <p:nvPr/>
          </p:nvGrpSpPr>
          <p:grpSpPr>
            <a:xfrm>
              <a:off x="1828800" y="2746440"/>
              <a:ext cx="1752480" cy="2209680"/>
              <a:chOff x="1828800" y="2746440"/>
              <a:chExt cx="1752480" cy="2209680"/>
            </a:xfrm>
          </p:grpSpPr>
          <p:sp>
            <p:nvSpPr>
              <p:cNvPr id="641" name=""/>
              <p:cNvSpPr/>
              <p:nvPr/>
            </p:nvSpPr>
            <p:spPr>
              <a:xfrm>
                <a:off x="1828800" y="4651200"/>
                <a:ext cx="17524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828800" y="2746440"/>
                <a:ext cx="1752480" cy="2209320"/>
                <a:chOff x="1828800" y="2746440"/>
                <a:chExt cx="1752480" cy="22093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828800" y="2746440"/>
                  <a:ext cx="1752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3581280" y="2898360"/>
                  <a:ext cx="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828800" y="274644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6" name=""/>
          <p:cNvGrpSpPr/>
          <p:nvPr/>
        </p:nvGrpSpPr>
        <p:grpSpPr>
          <a:xfrm>
            <a:off x="5531400" y="2004480"/>
            <a:ext cx="1021680" cy="1199160"/>
            <a:chOff x="5531400" y="2004480"/>
            <a:chExt cx="1021680" cy="1199160"/>
          </a:xfrm>
        </p:grpSpPr>
        <p:pic>
          <p:nvPicPr>
            <p:cNvPr id="647" name="" descr=""/>
            <p:cNvPicPr/>
            <p:nvPr/>
          </p:nvPicPr>
          <p:blipFill>
            <a:blip r:embed="rId2"/>
            <a:srcRect l="50666" t="51617" r="0" b="0"/>
            <a:stretch/>
          </p:blipFill>
          <p:spPr>
            <a:xfrm rot="469200">
              <a:off x="5592600" y="2057040"/>
              <a:ext cx="841680" cy="95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8" name=""/>
            <p:cNvGrpSpPr/>
            <p:nvPr/>
          </p:nvGrpSpPr>
          <p:grpSpPr>
            <a:xfrm>
              <a:off x="5638680" y="2136600"/>
              <a:ext cx="914400" cy="1067040"/>
              <a:chOff x="5638680" y="2136600"/>
              <a:chExt cx="914400" cy="1067040"/>
            </a:xfrm>
          </p:grpSpPr>
          <p:sp>
            <p:nvSpPr>
              <p:cNvPr id="649" name=""/>
              <p:cNvSpPr/>
              <p:nvPr/>
            </p:nvSpPr>
            <p:spPr>
              <a:xfrm>
                <a:off x="5638680" y="2136600"/>
                <a:ext cx="9144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38680" y="21366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38680" y="3051000"/>
                <a:ext cx="9144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6553080" y="2212920"/>
                <a:ext cx="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4114800" y="2254680"/>
            <a:ext cx="1371600" cy="1634760"/>
            <a:chOff x="4114800" y="2254680"/>
            <a:chExt cx="1371600" cy="1634760"/>
          </a:xfrm>
        </p:grpSpPr>
        <p:grpSp>
          <p:nvGrpSpPr>
            <p:cNvPr id="654" name=""/>
            <p:cNvGrpSpPr/>
            <p:nvPr/>
          </p:nvGrpSpPr>
          <p:grpSpPr>
            <a:xfrm>
              <a:off x="4114800" y="2365200"/>
              <a:ext cx="1371600" cy="1524240"/>
              <a:chOff x="4114800" y="2365200"/>
              <a:chExt cx="1371600" cy="1524240"/>
            </a:xfrm>
          </p:grpSpPr>
          <p:sp>
            <p:nvSpPr>
              <p:cNvPr id="655" name=""/>
              <p:cNvSpPr/>
              <p:nvPr/>
            </p:nvSpPr>
            <p:spPr>
              <a:xfrm>
                <a:off x="4114800" y="236520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14800" y="3660840"/>
                <a:ext cx="1371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5486400" y="2441520"/>
                <a:ext cx="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14800" y="2365200"/>
                <a:ext cx="1371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59" name="" descr=""/>
            <p:cNvPicPr/>
            <p:nvPr/>
          </p:nvPicPr>
          <p:blipFill>
            <a:blip r:embed="rId3"/>
            <a:srcRect l="0" t="51573" r="49391" b="0"/>
            <a:stretch/>
          </p:blipFill>
          <p:spPr>
            <a:xfrm rot="345600">
              <a:off x="4224240" y="2307960"/>
              <a:ext cx="1131840" cy="12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"/>
          <p:cNvSpPr/>
          <p:nvPr/>
        </p:nvSpPr>
        <p:spPr>
          <a:xfrm>
            <a:off x="1045440" y="575640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stage is located at a unique spatial region with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time-s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x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599840" y="1676520"/>
            <a:ext cx="2895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23720" y="2943360"/>
            <a:ext cx="27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nd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atial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95680" y="1676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9720" y="2959200"/>
            <a:ext cx="23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urants are located at distinct spatial re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198800" y="3006720"/>
            <a:ext cx="1930320" cy="3712320"/>
            <a:chOff x="1198800" y="3006720"/>
            <a:chExt cx="1930320" cy="3712320"/>
          </a:xfrm>
        </p:grpSpPr>
        <p:grpSp>
          <p:nvGrpSpPr>
            <p:cNvPr id="668" name=""/>
            <p:cNvGrpSpPr/>
            <p:nvPr/>
          </p:nvGrpSpPr>
          <p:grpSpPr>
            <a:xfrm>
              <a:off x="1295280" y="3006720"/>
              <a:ext cx="1830960" cy="2253960"/>
              <a:chOff x="1295280" y="3006720"/>
              <a:chExt cx="1830960" cy="2253960"/>
            </a:xfrm>
          </p:grpSpPr>
          <p:pic>
            <p:nvPicPr>
              <p:cNvPr id="669" name="" descr=""/>
              <p:cNvPicPr/>
              <p:nvPr/>
            </p:nvPicPr>
            <p:blipFill>
              <a:blip r:embed="rId1"/>
              <a:srcRect l="293" t="1910" r="50997" b="54203"/>
              <a:stretch/>
            </p:blipFill>
            <p:spPr>
              <a:xfrm rot="342600">
                <a:off x="1519200" y="3077640"/>
                <a:ext cx="1520640" cy="181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0" name=""/>
              <p:cNvGrpSpPr/>
              <p:nvPr/>
            </p:nvGrpSpPr>
            <p:grpSpPr>
              <a:xfrm>
                <a:off x="1295280" y="3051000"/>
                <a:ext cx="1752480" cy="2209680"/>
                <a:chOff x="1295280" y="3051000"/>
                <a:chExt cx="1752480" cy="220968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295280" y="4955760"/>
                  <a:ext cx="175248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2" name=""/>
                <p:cNvGrpSpPr/>
                <p:nvPr/>
              </p:nvGrpSpPr>
              <p:grpSpPr>
                <a:xfrm>
                  <a:off x="1295280" y="3051000"/>
                  <a:ext cx="1752480" cy="2209320"/>
                  <a:chOff x="1295280" y="3051000"/>
                  <a:chExt cx="1752480" cy="22093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1295280" y="3051000"/>
                    <a:ext cx="17524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>
                    <a:off x="3047760" y="3202920"/>
                    <a:ext cx="0" cy="2057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1295280" y="3051000"/>
                    <a:ext cx="0" cy="19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76" name=""/>
            <p:cNvSpPr/>
            <p:nvPr/>
          </p:nvSpPr>
          <p:spPr>
            <a:xfrm>
              <a:off x="1198800" y="552780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113360" y="2784960"/>
            <a:ext cx="1930320" cy="3924360"/>
            <a:chOff x="4113360" y="2784960"/>
            <a:chExt cx="1930320" cy="3924360"/>
          </a:xfrm>
        </p:grpSpPr>
        <p:grpSp>
          <p:nvGrpSpPr>
            <p:cNvPr id="678" name=""/>
            <p:cNvGrpSpPr/>
            <p:nvPr/>
          </p:nvGrpSpPr>
          <p:grpSpPr>
            <a:xfrm>
              <a:off x="4191120" y="2784960"/>
              <a:ext cx="1371600" cy="1634760"/>
              <a:chOff x="4191120" y="2784960"/>
              <a:chExt cx="1371600" cy="163476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4191120" y="2895480"/>
                <a:ext cx="1371600" cy="1524240"/>
                <a:chOff x="4191120" y="2895480"/>
                <a:chExt cx="1371600" cy="1524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191120" y="2895480"/>
                  <a:ext cx="0" cy="129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191120" y="4191120"/>
                  <a:ext cx="137160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5562720" y="2971800"/>
                  <a:ext cx="0" cy="144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91120" y="2895480"/>
                  <a:ext cx="137160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84" name="" descr=""/>
              <p:cNvPicPr/>
              <p:nvPr/>
            </p:nvPicPr>
            <p:blipFill>
              <a:blip r:embed="rId2"/>
              <a:srcRect l="0" t="51573" r="49391" b="0"/>
              <a:stretch/>
            </p:blipFill>
            <p:spPr>
              <a:xfrm rot="345600">
                <a:off x="4300560" y="2838240"/>
                <a:ext cx="1131840" cy="12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" name=""/>
            <p:cNvSpPr/>
            <p:nvPr/>
          </p:nvSpPr>
          <p:spPr>
            <a:xfrm>
              <a:off x="4113360" y="551808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674400" y="2538000"/>
            <a:ext cx="2017080" cy="4171320"/>
            <a:chOff x="6674400" y="2538000"/>
            <a:chExt cx="2017080" cy="4171320"/>
          </a:xfrm>
        </p:grpSpPr>
        <p:grpSp>
          <p:nvGrpSpPr>
            <p:cNvPr id="687" name=""/>
            <p:cNvGrpSpPr/>
            <p:nvPr/>
          </p:nvGrpSpPr>
          <p:grpSpPr>
            <a:xfrm>
              <a:off x="6674400" y="2538000"/>
              <a:ext cx="1021680" cy="1198080"/>
              <a:chOff x="6674400" y="2538000"/>
              <a:chExt cx="1021680" cy="1198080"/>
            </a:xfrm>
          </p:grpSpPr>
          <p:pic>
            <p:nvPicPr>
              <p:cNvPr id="688" name="" descr=""/>
              <p:cNvPicPr/>
              <p:nvPr/>
            </p:nvPicPr>
            <p:blipFill>
              <a:blip r:embed="rId3"/>
              <a:srcRect l="50666" t="51617" r="0" b="0"/>
              <a:stretch/>
            </p:blipFill>
            <p:spPr>
              <a:xfrm rot="469200">
                <a:off x="6735600" y="2590560"/>
                <a:ext cx="841680" cy="956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9" name=""/>
              <p:cNvGrpSpPr/>
              <p:nvPr/>
            </p:nvGrpSpPr>
            <p:grpSpPr>
              <a:xfrm>
                <a:off x="6781680" y="2669760"/>
                <a:ext cx="914400" cy="1066320"/>
                <a:chOff x="6781680" y="2669760"/>
                <a:chExt cx="914400" cy="1066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781680" y="2669760"/>
                  <a:ext cx="91440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781680" y="2669760"/>
                  <a:ext cx="0" cy="91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781680" y="3583800"/>
                  <a:ext cx="9144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7696080" y="274536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4" name=""/>
            <p:cNvSpPr/>
            <p:nvPr/>
          </p:nvSpPr>
          <p:spPr>
            <a:xfrm>
              <a:off x="6761160" y="551808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x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76760" y="2959200"/>
            <a:ext cx="25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perd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tempo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599840" y="1676520"/>
            <a:ext cx="2895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2943360"/>
            <a:ext cx="271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is an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end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at which </a:t>
            </a: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95680" y="1676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9720" y="2959200"/>
            <a:ext cx="23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95680" y="1676520"/>
            <a:ext cx="2514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erdurant is located at a single temporal re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295280" y="3006720"/>
            <a:ext cx="1830960" cy="2253960"/>
            <a:chOff x="1295280" y="3006720"/>
            <a:chExt cx="1830960" cy="2253960"/>
          </a:xfrm>
        </p:grpSpPr>
        <p:pic>
          <p:nvPicPr>
            <p:cNvPr id="704" name="" descr=""/>
            <p:cNvPicPr/>
            <p:nvPr/>
          </p:nvPicPr>
          <p:blipFill>
            <a:blip r:embed="rId1"/>
            <a:srcRect l="293" t="1910" r="50997" b="54203"/>
            <a:stretch/>
          </p:blipFill>
          <p:spPr>
            <a:xfrm rot="342600">
              <a:off x="1519200" y="3077640"/>
              <a:ext cx="1520640" cy="18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"/>
            <p:cNvGrpSpPr/>
            <p:nvPr/>
          </p:nvGrpSpPr>
          <p:grpSpPr>
            <a:xfrm>
              <a:off x="1295280" y="3051000"/>
              <a:ext cx="1752480" cy="2209680"/>
              <a:chOff x="1295280" y="3051000"/>
              <a:chExt cx="1752480" cy="2209680"/>
            </a:xfrm>
          </p:grpSpPr>
          <p:sp>
            <p:nvSpPr>
              <p:cNvPr id="706" name=""/>
              <p:cNvSpPr/>
              <p:nvPr/>
            </p:nvSpPr>
            <p:spPr>
              <a:xfrm>
                <a:off x="1295280" y="4955760"/>
                <a:ext cx="17524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1295280" y="3051000"/>
                <a:ext cx="1752480" cy="2209320"/>
                <a:chOff x="1295280" y="3051000"/>
                <a:chExt cx="1752480" cy="22093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295280" y="3051000"/>
                  <a:ext cx="1752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3047760" y="3202920"/>
                  <a:ext cx="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305100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1" name=""/>
          <p:cNvGrpSpPr/>
          <p:nvPr/>
        </p:nvGrpSpPr>
        <p:grpSpPr>
          <a:xfrm>
            <a:off x="4191120" y="2784960"/>
            <a:ext cx="1371600" cy="1634760"/>
            <a:chOff x="4191120" y="2784960"/>
            <a:chExt cx="1371600" cy="1634760"/>
          </a:xfrm>
        </p:grpSpPr>
        <p:grpSp>
          <p:nvGrpSpPr>
            <p:cNvPr id="712" name=""/>
            <p:cNvGrpSpPr/>
            <p:nvPr/>
          </p:nvGrpSpPr>
          <p:grpSpPr>
            <a:xfrm>
              <a:off x="4191120" y="2895480"/>
              <a:ext cx="1371600" cy="1524240"/>
              <a:chOff x="4191120" y="2895480"/>
              <a:chExt cx="1371600" cy="1524240"/>
            </a:xfrm>
          </p:grpSpPr>
          <p:sp>
            <p:nvSpPr>
              <p:cNvPr id="713" name=""/>
              <p:cNvSpPr/>
              <p:nvPr/>
            </p:nvSpPr>
            <p:spPr>
              <a:xfrm>
                <a:off x="4191120" y="28954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191120" y="4191120"/>
                <a:ext cx="1371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5562720" y="2971800"/>
                <a:ext cx="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191120" y="2895480"/>
                <a:ext cx="13716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17" name="" descr=""/>
            <p:cNvPicPr/>
            <p:nvPr/>
          </p:nvPicPr>
          <p:blipFill>
            <a:blip r:embed="rId2"/>
            <a:srcRect l="0" t="51573" r="49391" b="0"/>
            <a:stretch/>
          </p:blipFill>
          <p:spPr>
            <a:xfrm rot="345600">
              <a:off x="4300560" y="2838240"/>
              <a:ext cx="1131840" cy="12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"/>
          <p:cNvGrpSpPr/>
          <p:nvPr/>
        </p:nvGrpSpPr>
        <p:grpSpPr>
          <a:xfrm>
            <a:off x="6674400" y="2538000"/>
            <a:ext cx="1021680" cy="1198080"/>
            <a:chOff x="6674400" y="2538000"/>
            <a:chExt cx="1021680" cy="1198080"/>
          </a:xfrm>
        </p:grpSpPr>
        <p:pic>
          <p:nvPicPr>
            <p:cNvPr id="719" name="" descr=""/>
            <p:cNvPicPr/>
            <p:nvPr/>
          </p:nvPicPr>
          <p:blipFill>
            <a:blip r:embed="rId3"/>
            <a:srcRect l="50666" t="51617" r="0" b="0"/>
            <a:stretch/>
          </p:blipFill>
          <p:spPr>
            <a:xfrm rot="469200">
              <a:off x="6735600" y="2590560"/>
              <a:ext cx="841680" cy="95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6781680" y="2669760"/>
              <a:ext cx="914400" cy="1066320"/>
              <a:chOff x="6781680" y="2669760"/>
              <a:chExt cx="914400" cy="106632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2669760"/>
                <a:ext cx="9144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81680" y="2669760"/>
                <a:ext cx="0" cy="9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3583800"/>
                <a:ext cx="9144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696080" y="27453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88200" y="1600200"/>
            <a:ext cx="3354840" cy="2667240"/>
            <a:chOff x="988200" y="1600200"/>
            <a:chExt cx="3354840" cy="2667240"/>
          </a:xfrm>
        </p:grpSpPr>
        <p:sp>
          <p:nvSpPr>
            <p:cNvPr id="97" name=""/>
            <p:cNvSpPr/>
            <p:nvPr/>
          </p:nvSpPr>
          <p:spPr>
            <a:xfrm>
              <a:off x="988200" y="2438280"/>
              <a:ext cx="2961000" cy="18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097"/>
                  </a:solidFill>
                  <a:latin typeface="Times New Roman"/>
                  <a:ea typeface="Times New Roman"/>
                </a:rPr>
                <a:t>Abstract 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 located i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Space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s, prepos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285640" y="1600200"/>
              <a:ext cx="2057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2000" y="1600200"/>
            <a:ext cx="4576680" cy="4013280"/>
            <a:chOff x="4572000" y="1600200"/>
            <a:chExt cx="4576680" cy="4013280"/>
          </a:xfrm>
        </p:grpSpPr>
        <p:sp>
          <p:nvSpPr>
            <p:cNvPr id="100" name=""/>
            <p:cNvSpPr/>
            <p:nvPr/>
          </p:nvSpPr>
          <p:spPr>
            <a:xfrm>
              <a:off x="5389560" y="2438280"/>
              <a:ext cx="375912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Spatio-temporal 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ED i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Space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, me, your lif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your arm, your childhood,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the cavity of my stomach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human being, cat, huma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160020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610160" y="1903320"/>
            <a:ext cx="4495680" cy="4165560"/>
          </a:xfrm>
          <a:prstGeom prst="ellipse">
            <a:avLst/>
          </a:prstGeom>
          <a:noFill/>
          <a:ln w="63360">
            <a:solidFill>
              <a:srgbClr val="3a2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 flipV="1">
            <a:off x="1295280" y="3657600"/>
            <a:ext cx="5486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erdurant is located at a single temporal re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295280" y="3006720"/>
            <a:ext cx="1830960" cy="2253960"/>
            <a:chOff x="1295280" y="3006720"/>
            <a:chExt cx="1830960" cy="2253960"/>
          </a:xfrm>
        </p:grpSpPr>
        <p:pic>
          <p:nvPicPr>
            <p:cNvPr id="728" name="" descr=""/>
            <p:cNvPicPr/>
            <p:nvPr/>
          </p:nvPicPr>
          <p:blipFill>
            <a:blip r:embed="rId1"/>
            <a:srcRect l="293" t="1910" r="50997" b="54203"/>
            <a:stretch/>
          </p:blipFill>
          <p:spPr>
            <a:xfrm rot="342600">
              <a:off x="1519200" y="3077640"/>
              <a:ext cx="1520640" cy="18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9" name=""/>
            <p:cNvGrpSpPr/>
            <p:nvPr/>
          </p:nvGrpSpPr>
          <p:grpSpPr>
            <a:xfrm>
              <a:off x="1295280" y="3051000"/>
              <a:ext cx="1752480" cy="2209680"/>
              <a:chOff x="1295280" y="3051000"/>
              <a:chExt cx="1752480" cy="2209680"/>
            </a:xfrm>
          </p:grpSpPr>
          <p:sp>
            <p:nvSpPr>
              <p:cNvPr id="730" name=""/>
              <p:cNvSpPr/>
              <p:nvPr/>
            </p:nvSpPr>
            <p:spPr>
              <a:xfrm>
                <a:off x="1295280" y="4955760"/>
                <a:ext cx="17524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1295280" y="3051000"/>
                <a:ext cx="1752480" cy="2209320"/>
                <a:chOff x="1295280" y="3051000"/>
                <a:chExt cx="1752480" cy="22093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1295280" y="3051000"/>
                  <a:ext cx="1752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3047760" y="3202920"/>
                  <a:ext cx="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295280" y="305100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5" name=""/>
          <p:cNvGrpSpPr/>
          <p:nvPr/>
        </p:nvGrpSpPr>
        <p:grpSpPr>
          <a:xfrm>
            <a:off x="6674400" y="2538000"/>
            <a:ext cx="1021680" cy="1198080"/>
            <a:chOff x="6674400" y="2538000"/>
            <a:chExt cx="1021680" cy="1198080"/>
          </a:xfrm>
        </p:grpSpPr>
        <p:pic>
          <p:nvPicPr>
            <p:cNvPr id="736" name="" descr=""/>
            <p:cNvPicPr/>
            <p:nvPr/>
          </p:nvPicPr>
          <p:blipFill>
            <a:blip r:embed="rId2"/>
            <a:srcRect l="50666" t="51617" r="0" b="0"/>
            <a:stretch/>
          </p:blipFill>
          <p:spPr>
            <a:xfrm rot="469200">
              <a:off x="6735600" y="2590560"/>
              <a:ext cx="841680" cy="95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6781680" y="2669760"/>
              <a:ext cx="914400" cy="1066320"/>
              <a:chOff x="6781680" y="2669760"/>
              <a:chExt cx="914400" cy="1066320"/>
            </a:xfrm>
          </p:grpSpPr>
          <p:sp>
            <p:nvSpPr>
              <p:cNvPr id="738" name=""/>
              <p:cNvSpPr/>
              <p:nvPr/>
            </p:nvSpPr>
            <p:spPr>
              <a:xfrm>
                <a:off x="6781680" y="2669760"/>
                <a:ext cx="9144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781680" y="2669760"/>
                <a:ext cx="0" cy="9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781680" y="3583800"/>
                <a:ext cx="9144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696080" y="27453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 flipV="1">
            <a:off x="3048120" y="3733560"/>
            <a:ext cx="464796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048120" y="2743200"/>
            <a:ext cx="4647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295280" y="2666520"/>
            <a:ext cx="5486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x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6760" y="2959200"/>
            <a:ext cx="25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d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99840" y="1676520"/>
            <a:ext cx="2895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2943360"/>
            <a:ext cx="271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1676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9720" y="2959200"/>
            <a:ext cx="23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95680" y="1676520"/>
            <a:ext cx="2514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33880" y="2743200"/>
            <a:ext cx="8457840" cy="3813120"/>
            <a:chOff x="533880" y="2743200"/>
            <a:chExt cx="8457840" cy="3813120"/>
          </a:xfrm>
        </p:grpSpPr>
        <p:grpSp>
          <p:nvGrpSpPr>
            <p:cNvPr id="753" name=""/>
            <p:cNvGrpSpPr/>
            <p:nvPr/>
          </p:nvGrpSpPr>
          <p:grpSpPr>
            <a:xfrm>
              <a:off x="533880" y="5181480"/>
              <a:ext cx="2189520" cy="1374840"/>
              <a:chOff x="533880" y="5181480"/>
              <a:chExt cx="2189520" cy="1374840"/>
            </a:xfrm>
          </p:grpSpPr>
          <p:sp>
            <p:nvSpPr>
              <p:cNvPr id="754" name=""/>
              <p:cNvSpPr/>
              <p:nvPr/>
            </p:nvSpPr>
            <p:spPr>
              <a:xfrm>
                <a:off x="533880" y="5730840"/>
                <a:ext cx="2189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on-Persisten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entit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5280" y="5181480"/>
                <a:ext cx="0" cy="53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971800" y="2743200"/>
              <a:ext cx="6019920" cy="3507840"/>
              <a:chOff x="2971800" y="2743200"/>
              <a:chExt cx="6019920" cy="3507840"/>
            </a:xfrm>
          </p:grpSpPr>
          <p:sp>
            <p:nvSpPr>
              <p:cNvPr id="757" name=""/>
              <p:cNvSpPr/>
              <p:nvPr/>
            </p:nvSpPr>
            <p:spPr>
              <a:xfrm>
                <a:off x="2971800" y="2743200"/>
                <a:ext cx="6019920" cy="23623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56520" y="5791320"/>
                <a:ext cx="248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Persistent entit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876920" y="5105520"/>
                <a:ext cx="0" cy="685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and persistent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s (non-persistent entities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 located at 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unique spa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g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rt x &amp;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(u)(v)(L xu &amp; L xv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SR u &amp; u = v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 located a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n-simultaneo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st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 x &amp;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)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)(L xu &amp; L xv &amp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U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s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IMU uv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89360" y="1933560"/>
            <a:ext cx="5033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)(TS w &amp; P uw &amp; P v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203480" y="2597040"/>
            <a:ext cx="3216240" cy="2512800"/>
            <a:chOff x="1203480" y="2597040"/>
            <a:chExt cx="3216240" cy="2512800"/>
          </a:xfrm>
        </p:grpSpPr>
        <p:sp>
          <p:nvSpPr>
            <p:cNvPr id="765" name=""/>
            <p:cNvSpPr/>
            <p:nvPr/>
          </p:nvSpPr>
          <p:spPr>
            <a:xfrm>
              <a:off x="1203480" y="3552840"/>
              <a:ext cx="2457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re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spati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ons and 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 of the sa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-sl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438280" y="2597040"/>
              <a:ext cx="198144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876920" y="2597040"/>
            <a:ext cx="3504960" cy="1847880"/>
            <a:chOff x="4876920" y="2597040"/>
            <a:chExt cx="3504960" cy="1847880"/>
          </a:xfrm>
        </p:grpSpPr>
        <p:sp>
          <p:nvSpPr>
            <p:cNvPr id="768" name=""/>
            <p:cNvSpPr/>
            <p:nvPr/>
          </p:nvSpPr>
          <p:spPr>
            <a:xfrm>
              <a:off x="5162400" y="3619440"/>
              <a:ext cx="32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2597040"/>
              <a:ext cx="17524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50000" y="4724280"/>
            <a:ext cx="7750440" cy="1931040"/>
            <a:chOff x="450000" y="4724280"/>
            <a:chExt cx="7750440" cy="1931040"/>
          </a:xfrm>
        </p:grpSpPr>
        <p:sp>
          <p:nvSpPr>
            <p:cNvPr id="771" name=""/>
            <p:cNvSpPr/>
            <p:nvPr/>
          </p:nvSpPr>
          <p:spPr>
            <a:xfrm>
              <a:off x="450000" y="6073920"/>
              <a:ext cx="775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ntities that exist in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more than one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-sl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14600" y="5105520"/>
              <a:ext cx="18288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648320" y="4724280"/>
              <a:ext cx="17524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 and persistent entit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eor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s are not persistent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ntity that is located at a temporal region is a persistent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89640" y="175248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bstrac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NOT 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8760" y="1752480"/>
            <a:ext cx="224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18440" y="3581280"/>
            <a:ext cx="24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 at more t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nstant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2720" y="3429000"/>
            <a:ext cx="213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ersis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 only a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nstan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981080" y="1066680"/>
            <a:ext cx="2362320" cy="762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1066680"/>
            <a:ext cx="20574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77120" y="2971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733920" y="2971800"/>
            <a:ext cx="2743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28600" y="4724280"/>
            <a:ext cx="8417160" cy="1756440"/>
            <a:chOff x="228600" y="4724280"/>
            <a:chExt cx="8417160" cy="1756440"/>
          </a:xfrm>
        </p:grpSpPr>
        <p:grpSp>
          <p:nvGrpSpPr>
            <p:cNvPr id="786" name=""/>
            <p:cNvGrpSpPr/>
            <p:nvPr/>
          </p:nvGrpSpPr>
          <p:grpSpPr>
            <a:xfrm>
              <a:off x="3886200" y="4724280"/>
              <a:ext cx="4759560" cy="1724760"/>
              <a:chOff x="3886200" y="4724280"/>
              <a:chExt cx="4759560" cy="1724760"/>
            </a:xfrm>
          </p:grpSpPr>
          <p:sp>
            <p:nvSpPr>
              <p:cNvPr id="787" name=""/>
              <p:cNvSpPr/>
              <p:nvPr/>
            </p:nvSpPr>
            <p:spPr>
              <a:xfrm>
                <a:off x="4400640" y="5257800"/>
                <a:ext cx="424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Perdura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our life, your childhood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lives of your family memb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86200" y="4724280"/>
                <a:ext cx="12193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533520" y="4724280"/>
              <a:ext cx="3352680" cy="1756440"/>
              <a:chOff x="533520" y="4724280"/>
              <a:chExt cx="3352680" cy="1756440"/>
            </a:xfrm>
          </p:grpSpPr>
          <p:sp>
            <p:nvSpPr>
              <p:cNvPr id="790" name=""/>
              <p:cNvSpPr/>
              <p:nvPr/>
            </p:nvSpPr>
            <p:spPr>
              <a:xfrm>
                <a:off x="533520" y="5289480"/>
                <a:ext cx="2590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Endura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ou, me, your arm,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our famil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1981080" y="4724280"/>
                <a:ext cx="19051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228600" y="5105520"/>
              <a:ext cx="6477120" cy="914400"/>
            </a:xfrm>
            <a:prstGeom prst="ellipse">
              <a:avLst/>
            </a:prstGeom>
            <a:noFill/>
            <a:ln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urants and per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urants are persistent entities that are located at spatial region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d x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Pst x &amp; (u)(L xu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R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1198800" y="1787760"/>
            <a:ext cx="1930320" cy="3711960"/>
            <a:chOff x="1198800" y="1787760"/>
            <a:chExt cx="1930320" cy="3711960"/>
          </a:xfrm>
        </p:grpSpPr>
        <p:grpSp>
          <p:nvGrpSpPr>
            <p:cNvPr id="796" name=""/>
            <p:cNvGrpSpPr/>
            <p:nvPr/>
          </p:nvGrpSpPr>
          <p:grpSpPr>
            <a:xfrm>
              <a:off x="1295280" y="1787760"/>
              <a:ext cx="1830960" cy="2253960"/>
              <a:chOff x="1295280" y="1787760"/>
              <a:chExt cx="1830960" cy="2253960"/>
            </a:xfrm>
          </p:grpSpPr>
          <p:pic>
            <p:nvPicPr>
              <p:cNvPr id="797" name="" descr=""/>
              <p:cNvPicPr/>
              <p:nvPr/>
            </p:nvPicPr>
            <p:blipFill>
              <a:blip r:embed="rId1"/>
              <a:srcRect l="293" t="1910" r="50997" b="54203"/>
              <a:stretch/>
            </p:blipFill>
            <p:spPr>
              <a:xfrm rot="342600">
                <a:off x="1519200" y="1858680"/>
                <a:ext cx="1520640" cy="181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8" name=""/>
              <p:cNvGrpSpPr/>
              <p:nvPr/>
            </p:nvGrpSpPr>
            <p:grpSpPr>
              <a:xfrm>
                <a:off x="1295280" y="1832040"/>
                <a:ext cx="1752480" cy="2209680"/>
                <a:chOff x="1295280" y="1832040"/>
                <a:chExt cx="1752480" cy="22096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1295280" y="3736800"/>
                  <a:ext cx="175248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0" name=""/>
                <p:cNvGrpSpPr/>
                <p:nvPr/>
              </p:nvGrpSpPr>
              <p:grpSpPr>
                <a:xfrm>
                  <a:off x="1295280" y="1832040"/>
                  <a:ext cx="1752480" cy="2209320"/>
                  <a:chOff x="1295280" y="1832040"/>
                  <a:chExt cx="1752480" cy="22093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1295280" y="1832040"/>
                    <a:ext cx="175248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3047760" y="1983960"/>
                    <a:ext cx="0" cy="2057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295280" y="1832040"/>
                    <a:ext cx="0" cy="19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04" name=""/>
            <p:cNvSpPr/>
            <p:nvPr/>
          </p:nvSpPr>
          <p:spPr>
            <a:xfrm>
              <a:off x="1198800" y="430848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113360" y="1565640"/>
            <a:ext cx="1930320" cy="3924360"/>
            <a:chOff x="4113360" y="1565640"/>
            <a:chExt cx="1930320" cy="3924360"/>
          </a:xfrm>
        </p:grpSpPr>
        <p:grpSp>
          <p:nvGrpSpPr>
            <p:cNvPr id="806" name=""/>
            <p:cNvGrpSpPr/>
            <p:nvPr/>
          </p:nvGrpSpPr>
          <p:grpSpPr>
            <a:xfrm>
              <a:off x="4191120" y="1565640"/>
              <a:ext cx="1371600" cy="1634760"/>
              <a:chOff x="4191120" y="1565640"/>
              <a:chExt cx="1371600" cy="163476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4191120" y="1676160"/>
                <a:ext cx="1371600" cy="1524240"/>
                <a:chOff x="4191120" y="1676160"/>
                <a:chExt cx="1371600" cy="1524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4191120" y="1676160"/>
                  <a:ext cx="0" cy="129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191120" y="2971800"/>
                  <a:ext cx="137160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5562720" y="1752480"/>
                  <a:ext cx="0" cy="144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191120" y="1676160"/>
                  <a:ext cx="137160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12" name="" descr=""/>
              <p:cNvPicPr/>
              <p:nvPr/>
            </p:nvPicPr>
            <p:blipFill>
              <a:blip r:embed="rId2"/>
              <a:srcRect l="0" t="51573" r="49391" b="0"/>
              <a:stretch/>
            </p:blipFill>
            <p:spPr>
              <a:xfrm rot="345600">
                <a:off x="4300560" y="1618920"/>
                <a:ext cx="1131840" cy="12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3" name=""/>
            <p:cNvSpPr/>
            <p:nvPr/>
          </p:nvSpPr>
          <p:spPr>
            <a:xfrm>
              <a:off x="4113360" y="429876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674400" y="1318680"/>
            <a:ext cx="2017080" cy="4171320"/>
            <a:chOff x="6674400" y="1318680"/>
            <a:chExt cx="2017080" cy="4171320"/>
          </a:xfrm>
        </p:grpSpPr>
        <p:grpSp>
          <p:nvGrpSpPr>
            <p:cNvPr id="815" name=""/>
            <p:cNvGrpSpPr/>
            <p:nvPr/>
          </p:nvGrpSpPr>
          <p:grpSpPr>
            <a:xfrm>
              <a:off x="6674400" y="1318680"/>
              <a:ext cx="1021680" cy="1198080"/>
              <a:chOff x="6674400" y="1318680"/>
              <a:chExt cx="1021680" cy="1198080"/>
            </a:xfrm>
          </p:grpSpPr>
          <p:pic>
            <p:nvPicPr>
              <p:cNvPr id="816" name="" descr=""/>
              <p:cNvPicPr/>
              <p:nvPr/>
            </p:nvPicPr>
            <p:blipFill>
              <a:blip r:embed="rId3"/>
              <a:srcRect l="50666" t="51617" r="0" b="0"/>
              <a:stretch/>
            </p:blipFill>
            <p:spPr>
              <a:xfrm rot="469200">
                <a:off x="6735600" y="1371240"/>
                <a:ext cx="841680" cy="956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7" name=""/>
              <p:cNvGrpSpPr/>
              <p:nvPr/>
            </p:nvGrpSpPr>
            <p:grpSpPr>
              <a:xfrm>
                <a:off x="6781680" y="1450440"/>
                <a:ext cx="914400" cy="1066320"/>
                <a:chOff x="6781680" y="1450440"/>
                <a:chExt cx="914400" cy="10663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6781680" y="1450440"/>
                  <a:ext cx="91440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781680" y="1450440"/>
                  <a:ext cx="0" cy="91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781680" y="2364480"/>
                  <a:ext cx="9144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7696080" y="1526040"/>
                  <a:ext cx="0" cy="99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2" name=""/>
            <p:cNvSpPr/>
            <p:nvPr/>
          </p:nvSpPr>
          <p:spPr>
            <a:xfrm>
              <a:off x="6761160" y="4298760"/>
              <a:ext cx="193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tion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der/hor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ime-slic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urants and per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urants are persistent entities that are located at spatial region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d x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Pst x &amp; (u)(L xu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R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durants are located at unique temporal regio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 x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u)(v)(L xu &amp; L xv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(TR u &amp; u = v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 flipV="1">
            <a:off x="1295280" y="3429000"/>
            <a:ext cx="5486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1295280" y="2778120"/>
            <a:ext cx="1830960" cy="2253960"/>
            <a:chOff x="1295280" y="2778120"/>
            <a:chExt cx="1830960" cy="225396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rcRect l="293" t="1910" r="50997" b="54203"/>
            <a:stretch/>
          </p:blipFill>
          <p:spPr>
            <a:xfrm rot="342600">
              <a:off x="1519200" y="2849040"/>
              <a:ext cx="1520640" cy="18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295280" y="2822400"/>
              <a:ext cx="1752480" cy="2209680"/>
              <a:chOff x="1295280" y="2822400"/>
              <a:chExt cx="1752480" cy="2209680"/>
            </a:xfrm>
          </p:grpSpPr>
          <p:sp>
            <p:nvSpPr>
              <p:cNvPr id="829" name=""/>
              <p:cNvSpPr/>
              <p:nvPr/>
            </p:nvSpPr>
            <p:spPr>
              <a:xfrm>
                <a:off x="1295280" y="4727160"/>
                <a:ext cx="17524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1295280" y="2822400"/>
                <a:ext cx="1752480" cy="2209320"/>
                <a:chOff x="1295280" y="2822400"/>
                <a:chExt cx="1752480" cy="220932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295280" y="2822400"/>
                  <a:ext cx="1752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3047760" y="2974320"/>
                  <a:ext cx="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295280" y="282240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4" name=""/>
          <p:cNvGrpSpPr/>
          <p:nvPr/>
        </p:nvGrpSpPr>
        <p:grpSpPr>
          <a:xfrm>
            <a:off x="6674400" y="2309400"/>
            <a:ext cx="1021680" cy="1198080"/>
            <a:chOff x="6674400" y="2309400"/>
            <a:chExt cx="1021680" cy="1198080"/>
          </a:xfrm>
        </p:grpSpPr>
        <p:pic>
          <p:nvPicPr>
            <p:cNvPr id="835" name="" descr=""/>
            <p:cNvPicPr/>
            <p:nvPr/>
          </p:nvPicPr>
          <p:blipFill>
            <a:blip r:embed="rId2"/>
            <a:srcRect l="50666" t="51617" r="0" b="0"/>
            <a:stretch/>
          </p:blipFill>
          <p:spPr>
            <a:xfrm rot="469200">
              <a:off x="6735600" y="2361960"/>
              <a:ext cx="841680" cy="95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6" name=""/>
            <p:cNvGrpSpPr/>
            <p:nvPr/>
          </p:nvGrpSpPr>
          <p:grpSpPr>
            <a:xfrm>
              <a:off x="6781680" y="2441160"/>
              <a:ext cx="914400" cy="1066320"/>
              <a:chOff x="6781680" y="2441160"/>
              <a:chExt cx="914400" cy="1066320"/>
            </a:xfrm>
          </p:grpSpPr>
          <p:sp>
            <p:nvSpPr>
              <p:cNvPr id="837" name=""/>
              <p:cNvSpPr/>
              <p:nvPr/>
            </p:nvSpPr>
            <p:spPr>
              <a:xfrm>
                <a:off x="6781680" y="2441160"/>
                <a:ext cx="9144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81680" y="2441160"/>
                <a:ext cx="0" cy="9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81680" y="3355200"/>
                <a:ext cx="9144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7696080" y="2516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 flipV="1">
            <a:off x="3048120" y="3504960"/>
            <a:ext cx="464796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048120" y="2514600"/>
            <a:ext cx="4647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1295280" y="2437920"/>
            <a:ext cx="5486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98440" y="762120"/>
            <a:ext cx="675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of the jump-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87840" y="2209680"/>
            <a:ext cx="2075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Abstrac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OT 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3720" y="2209680"/>
            <a:ext cx="300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o-temporal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1523880"/>
            <a:ext cx="2362320" cy="76212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523880"/>
            <a:ext cx="20574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674360" y="3429000"/>
            <a:ext cx="4726080" cy="3094200"/>
            <a:chOff x="1674360" y="3429000"/>
            <a:chExt cx="4726080" cy="3094200"/>
          </a:xfrm>
        </p:grpSpPr>
        <p:sp>
          <p:nvSpPr>
            <p:cNvPr id="109" name=""/>
            <p:cNvSpPr/>
            <p:nvPr/>
          </p:nvSpPr>
          <p:spPr>
            <a:xfrm>
              <a:off x="1674360" y="3962520"/>
              <a:ext cx="331596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Per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st at more tha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one instant of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, me, your arm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r life, your childh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y stomach ca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66880" y="3429000"/>
              <a:ext cx="3733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867280" y="3429000"/>
            <a:ext cx="3124080" cy="3022560"/>
            <a:chOff x="5867280" y="3429000"/>
            <a:chExt cx="3124080" cy="3022560"/>
          </a:xfrm>
        </p:grpSpPr>
        <p:sp>
          <p:nvSpPr>
            <p:cNvPr id="112" name=""/>
            <p:cNvSpPr/>
            <p:nvPr/>
          </p:nvSpPr>
          <p:spPr>
            <a:xfrm>
              <a:off x="5867280" y="3962520"/>
              <a:ext cx="3124080" cy="24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097"/>
                  </a:solidFill>
                  <a:latin typeface="Times New Roman"/>
                  <a:ea typeface="Times New Roman"/>
                </a:rPr>
                <a:t>NON-Persistent / stag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ist only at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single instant of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aneous ev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antaneous part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of your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9000" y="3429000"/>
              <a:ext cx="763560" cy="5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urants and perdura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eor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urants do not have unique locations: are located at different spatial regions in different time-sl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-domains of endurants, perdurants and stages are pairwise dis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either a stage, an endurant, or a perdura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d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g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ves of en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fe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ura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erd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cated at the mereological sum of all regions at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feOf x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d x &amp; Ed y &amp;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(v)(L xv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w)(O wv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)(L yu &amp; O uw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every endurant has a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d 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)(LifeOf y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70000" y="2676600"/>
            <a:ext cx="8602560" cy="334332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3657600" y="5105520"/>
            <a:ext cx="1177560" cy="1161000"/>
            <a:chOff x="3657600" y="5105520"/>
            <a:chExt cx="1177560" cy="1161000"/>
          </a:xfrm>
        </p:grpSpPr>
        <p:sp>
          <p:nvSpPr>
            <p:cNvPr id="852" name=""/>
            <p:cNvSpPr/>
            <p:nvPr/>
          </p:nvSpPr>
          <p:spPr>
            <a:xfrm>
              <a:off x="3657600" y="5562720"/>
              <a:ext cx="117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t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s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4800" y="5105520"/>
              <a:ext cx="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256360" y="5105520"/>
            <a:ext cx="1547640" cy="1161000"/>
            <a:chOff x="5256360" y="5105520"/>
            <a:chExt cx="1547640" cy="1161000"/>
          </a:xfrm>
        </p:grpSpPr>
        <p:sp>
          <p:nvSpPr>
            <p:cNvPr id="855" name=""/>
            <p:cNvSpPr/>
            <p:nvPr/>
          </p:nvSpPr>
          <p:spPr>
            <a:xfrm>
              <a:off x="5256360" y="5562720"/>
              <a:ext cx="154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t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endur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7314120" y="5105520"/>
            <a:ext cx="1632960" cy="1161000"/>
            <a:chOff x="7314120" y="5105520"/>
            <a:chExt cx="1632960" cy="1161000"/>
          </a:xfrm>
        </p:grpSpPr>
        <p:sp>
          <p:nvSpPr>
            <p:cNvPr id="858" name=""/>
            <p:cNvSpPr/>
            <p:nvPr/>
          </p:nvSpPr>
          <p:spPr>
            <a:xfrm>
              <a:off x="7314120" y="5562720"/>
              <a:ext cx="163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t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e perdur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24680" y="5105520"/>
              <a:ext cx="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l ontolo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provid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level not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various kind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omatic theory of the top-level n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, region of space/time/space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h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on /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al / P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urant / perdurant /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5107680" y="1079640"/>
            <a:ext cx="2570400" cy="8254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Theory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 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660320" y="1940040"/>
            <a:ext cx="6006960" cy="2939400"/>
            <a:chOff x="1660320" y="1940040"/>
            <a:chExt cx="6006960" cy="2939400"/>
          </a:xfrm>
        </p:grpSpPr>
        <p:grpSp>
          <p:nvGrpSpPr>
            <p:cNvPr id="864" name=""/>
            <p:cNvGrpSpPr/>
            <p:nvPr/>
          </p:nvGrpSpPr>
          <p:grpSpPr>
            <a:xfrm>
              <a:off x="1660320" y="3200400"/>
              <a:ext cx="6006960" cy="1679040"/>
              <a:chOff x="1660320" y="3200400"/>
              <a:chExt cx="6006960" cy="1679040"/>
            </a:xfrm>
          </p:grpSpPr>
          <p:sp>
            <p:nvSpPr>
              <p:cNvPr id="865" name=""/>
              <p:cNvSpPr/>
              <p:nvPr/>
            </p:nvSpPr>
            <p:spPr>
              <a:xfrm>
                <a:off x="3168360" y="3200400"/>
                <a:ext cx="20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ereologies o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660320" y="4419720"/>
                <a:ext cx="600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ges              Endurants              Perdura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284560" y="3692520"/>
                <a:ext cx="18288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13360" y="36925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13360" y="3692520"/>
                <a:ext cx="251460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131920" y="2016000"/>
              <a:ext cx="198144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41960" y="1940040"/>
              <a:ext cx="1371600" cy="1295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116352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part-of re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distinc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fined in terms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gional parthoo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09800" y="762120"/>
            <a:ext cx="273204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reolog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regional parth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hood relations between en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46280" y="1895400"/>
            <a:ext cx="3901680" cy="2961360"/>
            <a:chOff x="746280" y="1895400"/>
            <a:chExt cx="3901680" cy="2961360"/>
          </a:xfrm>
        </p:grpSpPr>
        <p:sp>
          <p:nvSpPr>
            <p:cNvPr id="876" name=""/>
            <p:cNvSpPr/>
            <p:nvPr/>
          </p:nvSpPr>
          <p:spPr>
            <a:xfrm>
              <a:off x="746280" y="2568240"/>
              <a:ext cx="1919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mporar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h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rt of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me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3520" y="1895400"/>
              <a:ext cx="31244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432960" y="1895400"/>
            <a:ext cx="2081160" cy="3263760"/>
            <a:chOff x="3432960" y="1895400"/>
            <a:chExt cx="2081160" cy="3263760"/>
          </a:xfrm>
        </p:grpSpPr>
        <p:sp>
          <p:nvSpPr>
            <p:cNvPr id="879" name=""/>
            <p:cNvSpPr/>
            <p:nvPr/>
          </p:nvSpPr>
          <p:spPr>
            <a:xfrm>
              <a:off x="3432960" y="2504880"/>
              <a:ext cx="20811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man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h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all times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ich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rt of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48320" y="1895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648320" y="1895400"/>
            <a:ext cx="4163040" cy="4361040"/>
            <a:chOff x="4648320" y="1895400"/>
            <a:chExt cx="4163040" cy="4361040"/>
          </a:xfrm>
        </p:grpSpPr>
        <p:sp>
          <p:nvSpPr>
            <p:cNvPr id="882" name=""/>
            <p:cNvSpPr/>
            <p:nvPr/>
          </p:nvSpPr>
          <p:spPr>
            <a:xfrm>
              <a:off x="6547680" y="2504880"/>
              <a:ext cx="22636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fe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th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all times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ich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a par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 all times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ich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rt of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48320" y="1895400"/>
              <a:ext cx="2590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7840" y="1752480"/>
            <a:ext cx="2075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Abstrac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OT 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3720" y="1752480"/>
            <a:ext cx="300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o-temporal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7000" y="3581280"/>
            <a:ext cx="2388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 at more t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stant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0920" y="3429000"/>
            <a:ext cx="2033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ON-Persistent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exist only at a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ingle instant of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81080" y="1066680"/>
            <a:ext cx="2362320" cy="76212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066680"/>
            <a:ext cx="20574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971800"/>
            <a:ext cx="1066680" cy="45720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920" y="2971800"/>
            <a:ext cx="2743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64040" y="4724280"/>
            <a:ext cx="3791880" cy="1996920"/>
            <a:chOff x="4964040" y="4724280"/>
            <a:chExt cx="3791880" cy="1996920"/>
          </a:xfrm>
        </p:grpSpPr>
        <p:sp>
          <p:nvSpPr>
            <p:cNvPr id="124" name=""/>
            <p:cNvSpPr/>
            <p:nvPr/>
          </p:nvSpPr>
          <p:spPr>
            <a:xfrm>
              <a:off x="5479200" y="5257800"/>
              <a:ext cx="32767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a28d6"/>
                  </a:solidFill>
                  <a:latin typeface="Times New Roman"/>
                  <a:ea typeface="Times New Roman"/>
                </a:rPr>
                <a:t>Perdur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r life, your childhood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lives of your fami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64040" y="4724280"/>
              <a:ext cx="1219680" cy="5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92440" y="4691160"/>
            <a:ext cx="2590920" cy="2058480"/>
            <a:chOff x="2692440" y="4691160"/>
            <a:chExt cx="2590920" cy="2058480"/>
          </a:xfrm>
        </p:grpSpPr>
        <p:sp>
          <p:nvSpPr>
            <p:cNvPr id="127" name=""/>
            <p:cNvSpPr/>
            <p:nvPr/>
          </p:nvSpPr>
          <p:spPr>
            <a:xfrm>
              <a:off x="2692440" y="5288400"/>
              <a:ext cx="259092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097"/>
                  </a:solidFill>
                  <a:latin typeface="Times New Roman"/>
                  <a:ea typeface="Times New Roman"/>
                </a:rPr>
                <a:t>Endur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, me, your arm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our family, my stomach ca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784680" y="4691160"/>
              <a:ext cx="9360" cy="64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438280" y="5054760"/>
            <a:ext cx="6527880" cy="1701720"/>
            <a:chOff x="2438280" y="5054760"/>
            <a:chExt cx="6527880" cy="1701720"/>
          </a:xfrm>
        </p:grpSpPr>
        <p:sp>
          <p:nvSpPr>
            <p:cNvPr id="130" name=""/>
            <p:cNvSpPr/>
            <p:nvPr/>
          </p:nvSpPr>
          <p:spPr>
            <a:xfrm>
              <a:off x="2438280" y="5067360"/>
              <a:ext cx="6527880" cy="1689120"/>
            </a:xfrm>
            <a:prstGeom prst="rect">
              <a:avLst/>
            </a:prstGeom>
            <a:noFill/>
            <a:ln w="38160">
              <a:solidFill>
                <a:srgbClr val="940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25640" y="5054760"/>
              <a:ext cx="138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40084"/>
                  </a:solidFill>
                  <a:latin typeface="Times New Roman"/>
                  <a:ea typeface="Times New Roman"/>
                </a:rPr>
                <a:t>Particu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ic end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417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13840" y="579132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 is an end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981080" y="4343400"/>
            <a:ext cx="2743200" cy="1447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homas Bittner</cp:lastModifiedBy>
  <dcterms:modified xsi:type="dcterms:W3CDTF">2006-10-29T14:26:53Z</dcterms:modified>
  <cp:revision>419</cp:revision>
  <dc:subject/>
  <dc:title>PowerPoint Presentation</dc:title>
</cp:coreProperties>
</file>